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120B-B316-41FD-96A4-CFE04DBB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4B0-CAEB-4BDD-AA6E-1FCD3EFC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DDF-018F-466A-93EC-47854451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CBD4-13D1-4A35-A070-FE555803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B4B-BE30-4055-BA08-4CA3F1C6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EC6-EC6D-481E-A39E-E3F7D689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2259-E519-4B87-B142-76E859C7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7DC-7DA9-4FFF-B335-F9F74B68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631-985C-44AA-AD98-2630E791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7BD-A70F-488C-B4AD-F7C4F6BC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379-D0E8-4BBC-A303-837D8A13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3EB3-2C1A-465E-A48F-F093DE1C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19D7-A928-4CBA-BFF1-3C25972A3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urveygizmo.com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teachertube.com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Content to Your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te in and S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452600" y="1906560"/>
            <a:ext cx="62388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801800" y="514440"/>
            <a:ext cx="58942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90720" y="184320"/>
            <a:ext cx="632448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urveygizmo.co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1676520" y="1614600"/>
            <a:ext cx="6553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914400" y="331920"/>
            <a:ext cx="739152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70102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Pictures/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on Edit this P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on the Tree Icon at the top of the p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load a new file click on th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owse button and then locat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r file, then click uplo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insert the file in Double-Clic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the fil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are two radio buttons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will put in the file, th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will create a link to 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86600" y="1295280"/>
            <a:ext cx="781200" cy="820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6095880" y="2819520"/>
            <a:ext cx="2251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895640" cy="4286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410080" y="152388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icture of the bulldog is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s the file.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reating a Google Account.pdf is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nks to the f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you click on a picture it will allow you to change the alignment, link, size, and cap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erting a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sert a table click the table      I ic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en need to specify the size of the table you would like to cre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Modify the table once it i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page, just click in the ce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you will see the little ta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on.  This will allow you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cell, row, column, and table sett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685800" cy="53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0480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838160" cy="176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idge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o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tro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is an element of a graphical user interface (GUI) that displays an information arrangement changeable by the user, such as a window or a text box. The defining characteristic of a widget is to provide a single interaction point for the direct manipulation of a given kind of data. Widgets are basic visual building blocks which, combined in an application, hold all the data processed by the application and the available interactions on this da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insert a 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sert a widget click the little TV i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183816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934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kispaces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of Contents – Displays the contents of the 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SS Feed – Allows you to put in a RSS feed into your 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ents of a Wiki Page – Allows you to display another page from your wiki inside of another p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st of Wiki Pages – Will show you all the pages in your site or by a certain ta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cussion Area – Allows you to put in your discussion section in a p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ge History – Will display the page his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st of Links to this p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g Cloud – Will display a cloud of words if you tag your pag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p Contributors  - Display those that add the most to your 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– Gives you the ability to paste in any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752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85724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2514600" y="150804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teachertube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ideo widgets will allow you to put in a video from one of these site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order to put a video in you have to grab the code.  Scroll down to where you see Embeddable w/out Video Sear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click in the box it will highlight everything.  CTRL+C to cop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2610000" y="3552840"/>
            <a:ext cx="34099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59:49Z</dcterms:created>
  <dc:creator>MCSD</dc:creator>
  <dc:description/>
  <dc:language>en-US</dc:language>
  <cp:lastModifiedBy>MCSD</cp:lastModifiedBy>
  <dcterms:modified xsi:type="dcterms:W3CDTF">2009-03-02T19:38:40Z</dcterms:modified>
  <cp:revision>9</cp:revision>
  <dc:subject/>
  <dc:title>Adding Content to Your Wiki</dc:title>
</cp:coreProperties>
</file>