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855-86B2-47C4-9CB2-484F84BA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6F1-0727-4DD0-B77B-679CBD00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BDD-A4B1-4460-BFBD-6DD84F6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72F-88AF-41F8-BB66-E24AC5C3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B67-5C15-4BBE-9C5E-68DB179A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232-2665-41DB-AD38-0F3F1F85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6BF-10ED-4908-B271-026B8813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EF4-8CF6-4695-9BCE-41BF86E8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319-41C0-4E51-A4F6-9301C1A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683-3F99-45E2-83E7-60B5013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F5B-7DB2-4D69-BEC4-23751EE0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841-8BC0-4DD3-B544-7B045309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0B28-BF52-409D-A215-F51540486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urveygizmo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teachertube.com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Content to Your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ste in and S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452600" y="1906560"/>
            <a:ext cx="6238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801800" y="514440"/>
            <a:ext cx="58942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90720" y="184320"/>
            <a:ext cx="632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urveygizmo.c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1676520" y="1614600"/>
            <a:ext cx="6553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914400" y="331920"/>
            <a:ext cx="73915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7010280" cy="64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ng Pictures/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Edit this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on the Tree Icon at the top of the p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load a new file click on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rowse button and then locat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file, then click uplo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insert the file in Double-Clic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the file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wo radio button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e will put in the file, th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her will create a link to 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86600" y="1295280"/>
            <a:ext cx="781200" cy="820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095880" y="2819520"/>
            <a:ext cx="22510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4895640" cy="4286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410080" y="152388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icture of the bulldog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s the file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eating a Google Account.pdf is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nks to the f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click on a picture it will allow you to change the alignment, link, size, and cap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serting a 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table click the table      I ic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then need to specify the size of the table you would like to cre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Modify the table once it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page, just click in the c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ou will see the little 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on.  This will allow you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cell, row, column, and table sett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867280" y="1600200"/>
            <a:ext cx="685800" cy="53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3352680"/>
            <a:ext cx="2048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086600" y="4952880"/>
            <a:ext cx="1838160" cy="176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idge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o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tr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 is an element of a graphical user interface (GUI) that displays an information arrangement changeable by the user, such as a window or a text box. The defining characteristic of a widget is to provide a single interaction point for the direct manipulation of a given kind of data. Widgets are basic visual building blocks which, combined in an application, hold all the data processed by the application and the available interactions on this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insert a 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nsert a widget click the little TV i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183816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934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spaces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of Contents – Displays the contents of the p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SS Feed – Allows you to put in a RSS feed in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ents of a Wiki Page – Allows you to display another page from your wiki inside of another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Wiki Pages – Will show you all the pages in your site or by a certain t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ssion Area – Allows you to put in your discussion section in a p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ge History – Will display the page his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st of Links to this pag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g Cloud – Will display a cloud of words if you tag your pag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p Contributors  - Display those that add the most to your wik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– Gives you the ability to paste in any co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752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857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2514600" y="150804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teachertube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ideo widgets will allow you to put in a video from one of these sites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order to put a video in you have to grab the code.  Scroll down to where you see Embeddable w/out Video Sear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click in the box it will highlight everything.  CTRL+C to cop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2610000" y="3552840"/>
            <a:ext cx="340992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5:59:49Z</dcterms:created>
  <dc:creator>MCSD</dc:creator>
  <dc:description/>
  <dc:language>en-US</dc:language>
  <cp:lastModifiedBy>MCSD</cp:lastModifiedBy>
  <dcterms:modified xsi:type="dcterms:W3CDTF">2009-03-02T19:38:40Z</dcterms:modified>
  <cp:revision>9</cp:revision>
  <dc:subject/>
  <dc:title>Adding Content to Your Wiki</dc:title>
</cp:coreProperties>
</file>