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23A-D934-478D-B585-D5D1BA9B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510-BBA0-4BF7-AC2B-E22EAF30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4AB-7250-4C53-A6B4-57FDF8A9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3EC-4880-41FD-AAFA-A3C44BD1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55B-3746-4352-BF64-E1C182D6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F13-8C4F-4D14-8A00-CBE6C26F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504-F6C9-4E5E-9983-2A6643A7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207-ABE0-4D50-863C-2910714A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AE3-677C-412B-8EB6-49C08747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788-D42D-4097-BA73-E50B0A99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E6C-C782-4683-ACD7-751CD4C7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F06-BCDA-4F22-A1E8-FDE2695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82DF-C65E-446C-A630-15933EE85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urveygizmo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teachertube.com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ntent to Your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 in and S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452600" y="1906560"/>
            <a:ext cx="62388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801800" y="514440"/>
            <a:ext cx="58942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90720" y="184320"/>
            <a:ext cx="63244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urveygizmo.co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1676520" y="1614600"/>
            <a:ext cx="6553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914400" y="331920"/>
            <a:ext cx="73915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0102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Pictures/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Edit this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the Tree Icon at the top of the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load a new file click on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owse button and then locat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r file, then click uplo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insert the file in Double-Clic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the fil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two radio button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will put in the file,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will create a link to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86600" y="1295280"/>
            <a:ext cx="781200" cy="82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6095880" y="2819520"/>
            <a:ext cx="2251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95640" cy="4286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410080" y="15238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icture of the bulldog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s the file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eating a Google Account.pdf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nks to the f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you click on a picture it will allow you to change the alignment, link, size, and cap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ing a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table click the table      I ic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en need to specify the size of the table you would like to cre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odify the table once it 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page, just click in the c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you will see the little t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on.  This will allow you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cell, row, column, and tabl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685800" cy="53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048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838160" cy="176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dge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tro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n element of a graphical user interface (GUI) that displays an information arrangement changeable by the user, such as a window or a text box. The defining characteristic of a widget is to provide a single interaction point for the direct manipulation of a given kind of data. Widgets are basic visual building blocks which, combined in an application, hold all the data processed by the application and the available interactions on this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insert a 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widget click the little TV i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183816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934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kispaces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of Contents – Displays the contents of the 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SS Feed – Allows you to put in a RSS feed in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nts of a Wiki Page – Allows you to display another page from your wiki inside of another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Wiki Pages – Will show you all the pages in your site or by a certain ta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ssion Area – Allows you to put in your discussion section in a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ge History – Will display the page his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Links to this p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g Cloud – Will display a cloud of words if you tag your pag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p Contributors  - Display those that add the most 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– Gives you the ability to paste in any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752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85724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514600" y="150804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eachertube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deo widgets will allow you to put in a video from one of these site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rder to put a video in you have to grab the code.  Scroll down to where you see Embeddable w/out Video Sear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click in the box it will highlight everything.  CTRL+C to cop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2610000" y="3552840"/>
            <a:ext cx="3409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9:49Z</dcterms:created>
  <dc:creator>MCSD</dc:creator>
  <dc:description/>
  <dc:language>en-US</dc:language>
  <cp:lastModifiedBy>MCSD</cp:lastModifiedBy>
  <dcterms:modified xsi:type="dcterms:W3CDTF">2009-03-02T19:38:40Z</dcterms:modified>
  <cp:revision>9</cp:revision>
  <dc:subject/>
  <dc:title>Adding Content to Your Wiki</dc:title>
</cp:coreProperties>
</file>