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915-0C50-40C5-AE86-B0C76BB6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BE7D-206A-48BB-BB93-4CB3A3FF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EDA-443D-4880-8B6B-6CFC4CD24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E3C-F0C2-4B86-9893-76E83A82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EA7-9C52-4A08-89F9-E9C278C2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CB1-46FC-48C8-A89E-D817FE71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F50-5BA1-421D-B420-CA7562C0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BE41-3F1A-4FE1-9B11-C15B91AC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A6A-45DD-4D5F-95FB-75A043FB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7CE-EF47-4B22-9478-718E5312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B1EC-7F30-4A6A-B698-F08E5897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4611-ACFB-4AFE-8FA8-32D839C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841C-D274-4D0F-BE2B-FF1A20319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urveygizmo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teachertube.com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ntent to Your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 in and S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52600" y="1906560"/>
            <a:ext cx="6238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01800" y="514440"/>
            <a:ext cx="58942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90720" y="184320"/>
            <a:ext cx="63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urveygizmo.c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1676520" y="1614600"/>
            <a:ext cx="6553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914400" y="331920"/>
            <a:ext cx="73915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010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Pictures/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Edit this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the Tree Icon at the top of the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load a new file click on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owse button and then loca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file, then click uplo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insert the file in Double-Clic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the fil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two radio button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will put in the file,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will create a link to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86600" y="1295280"/>
            <a:ext cx="781200" cy="82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2251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956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410080" y="15238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cture of the bulldog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s the file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eating a Google Account.pdf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ks to the f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click on a picture it will allow you to change the alignment, link, size, and cap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table click the table      I ic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en need to specify the size of the table you would like to cre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odify the table once it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page, just click in the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you will see the little 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on.  This will allow you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cell, row, column, and tabl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685800" cy="53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048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838160" cy="176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dge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r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n element of a graphical user interface (GUI) that displays an information arrangement changeable by the user, such as a window or a text box. The defining characteristic of a widget is to provide a single interaction point for the direct manipulation of a given kind of data. Widgets are basic visual building blocks which, combined in an application, hold all the data processed by the application and the available interactions on this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insert a 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widget click the little TV i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18381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934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kispaces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of Contents – Displays the contents of the 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SS Feed – Allows you to put in a RSS feed in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s of a Wiki Page – Allows you to display another page from your wiki inside of another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Wiki Pages – Will show you all the pages in your site or by a certain t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ion Area – Allows you to put in your discussion section in a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ge History – Will display the page his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Links to this p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Cloud – Will display a cloud of words if you tag your pa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p Contributors  - Display those that add the most 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– Gives you the ability to paste in any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752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8572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514600" y="15080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eachertube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deo widgets will allow you to put in a video from one of these site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put a video in you have to grab the code.  Scroll down to where you see Embeddable w/out Video Sear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click in the box it will highlight everything.  CTRL+C to cop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2610000" y="3552840"/>
            <a:ext cx="3409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9:49Z</dcterms:created>
  <dc:creator>MCSD</dc:creator>
  <dc:description/>
  <dc:language>en-US</dc:language>
  <cp:lastModifiedBy>MCSD</cp:lastModifiedBy>
  <dcterms:modified xsi:type="dcterms:W3CDTF">2009-03-02T19:38:40Z</dcterms:modified>
  <cp:revision>9</cp:revision>
  <dc:subject/>
  <dc:title>Adding Content to Your Wiki</dc:title>
</cp:coreProperties>
</file>