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642B-E18E-4411-A476-A09FF9275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A6C0-1813-4C9D-828B-F557BE5A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40D9-94AD-49CC-A91D-2BC05A8E2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0DD1-BFFD-4544-BF18-4B4E83617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A888-B83A-4568-8D9C-67C1DA85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2026-E7CC-4AFC-8490-36D9D2DC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7C17-7ADC-42E1-89BE-9B55CB3B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2BBC-EF3B-42CE-AFDE-837C9A80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56BD-E522-40E9-A6EE-37B31500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2F59-D102-4F3C-A1EC-04957382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81BE-4F85-412C-953E-2BAEEE4D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9ECA-7B21-49AF-8C73-41C61097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B38C-B628-4457-9F3F-6BE9886678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urveygizmo.com/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teachertube.com/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ng Content to Your W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ste in and S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452600" y="1906560"/>
            <a:ext cx="623880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801800" y="514440"/>
            <a:ext cx="589428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990720" y="184320"/>
            <a:ext cx="632448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urveygizmo.com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3"/>
          <a:stretch/>
        </p:blipFill>
        <p:spPr>
          <a:xfrm>
            <a:off x="1676520" y="1614600"/>
            <a:ext cx="6553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914400" y="331920"/>
            <a:ext cx="7391520" cy="63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701028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ng Pictures/F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on Edit this P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on the Tree Icon at the top of the p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load a new file click on th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rowse button and then locat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ur file, then click uplo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insert the file in Double-Click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the file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re are two radio buttons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will put in the file, th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 will create a link to 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7086600" y="1295280"/>
            <a:ext cx="781200" cy="820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6095880" y="2819520"/>
            <a:ext cx="2251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4895640" cy="42865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5410080" y="1523880"/>
            <a:ext cx="32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icture of the bulldog is fro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erts the file.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reating a Google Account.pdf is fro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nks to the fi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you click on a picture it will allow you to change the alignment, link, size, and cap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erting a T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Insert a table click the table      I icon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then need to specify the size of the table you would like to cre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Modify the table once it i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your page, just click in the cel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you will see the little tab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on.  This will allow you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cell, row, column, and table sett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5867280" y="1600200"/>
            <a:ext cx="685800" cy="534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6172200" y="3352680"/>
            <a:ext cx="20480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7086600" y="4952880"/>
            <a:ext cx="1838160" cy="1765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idge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or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ontro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is an element of a graphical user interface (GUI) that displays an information arrangement changeable by the user, such as a window or a text box. The defining characteristic of a widget is to provide a single interaction point for the direct manipulation of a given kind of data. Widgets are basic visual building blocks which, combined in an application, hold all the data processed by the application and the available interactions on this dat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 insert a 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insert a widget click the little TV ic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183816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6934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kispaces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ble of Contents – Displays the contents of the 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SS Feed – Allows you to put in a RSS feed into your wik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ents of a Wiki Page – Allows you to display another page from your wiki inside of another pag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st of Wiki Pages – Will show you all the pages in your site or by a certain ta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cussion Area – Allows you to put in your discussion section in a pag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ge History – Will display the page histo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st of Links to this pag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g Cloud – Will display a cloud of words if you tag your pag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p Contributors  - Display those that add the most to your wik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ther – Gives you the ability to paste in any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172200" y="1828800"/>
            <a:ext cx="27525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deo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185724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2514600" y="1508040"/>
            <a:ext cx="6095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teachertube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video widgets will allow you to put in a video from one of these sites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order to put a video in you have to grab the code.  Scroll down to where you see Embeddable w/out Video Search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you click in the box it will highlight everything.  CTRL+C to cop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2610000" y="3552840"/>
            <a:ext cx="340992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5:59:49Z</dcterms:created>
  <dc:creator>MCSD</dc:creator>
  <dc:description/>
  <dc:language>en-US</dc:language>
  <cp:lastModifiedBy>MCSD</cp:lastModifiedBy>
  <dcterms:modified xsi:type="dcterms:W3CDTF">2009-03-02T19:38:40Z</dcterms:modified>
  <cp:revision>9</cp:revision>
  <dc:subject/>
  <dc:title>Adding Content to Your Wiki</dc:title>
</cp:coreProperties>
</file>