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43B-274E-461D-BE36-97F45CF3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C4C-28B7-4731-BD62-0842C65E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F30-258C-48AD-BE2F-26E9400A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764E-6C3A-4D58-93EC-CEB7D365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77E-3B32-4B98-BE30-CF44D891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28A-4160-44B1-A571-0626A499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0DD-8B8E-4964-AC69-81CBB39D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972-0947-4381-B1E7-A3D3DD80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0759-DA48-4B19-AF90-1380825A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3383-DD3A-4F89-8CE0-34578B66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75B-96ED-47F7-BF09-9D3102F1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4DE-A855-41B7-813C-742D97E4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B735-181B-473F-B2EA-A53478F0C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urveygizmo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teachertube.com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Content to Your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e in and S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452600" y="1906560"/>
            <a:ext cx="62388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801800" y="514440"/>
            <a:ext cx="58942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90720" y="184320"/>
            <a:ext cx="63244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urveygizmo.co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1676520" y="1614600"/>
            <a:ext cx="6553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914400" y="331920"/>
            <a:ext cx="73915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0102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Pictures/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on Edit this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on the Tree Icon at the top of the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load a new file click on th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owse button and then locat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r file, then click uplo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insert the file in Double-Clic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the fil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re two radio button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will put in the file, th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will create a link to 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86600" y="1295280"/>
            <a:ext cx="781200" cy="820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6095880" y="2819520"/>
            <a:ext cx="2251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95640" cy="4286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410080" y="152388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icture of the bulldog is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s the file.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eating a Google Account.pdf is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nks to the f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you click on a picture it will allow you to change the alignment, link, size, and cap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rting a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sert a table click the table      I ic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en need to specify the size of the table you would like to cre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Modify the table once it 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page, just click in the c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you will see the little ta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on.  This will allow you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cell, row, column, and table set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685800" cy="53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048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838160" cy="176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idge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o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tro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is an element of a graphical user interface (GUI) that displays an information arrangement changeable by the user, such as a window or a text box. The defining characteristic of a widget is to provide a single interaction point for the direct manipulation of a given kind of data. Widgets are basic visual building blocks which, combined in an application, hold all the data processed by the application and the available interactions on this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insert a 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sert a widget click the little TV i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183816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934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kispaces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of Contents – Displays the contents of the 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SS Feed – Allows you to put in a RSS feed into your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ents of a Wiki Page – Allows you to display another page from your wiki inside of another p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 of Wiki Pages – Will show you all the pages in your site or by a certain ta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cussion Area – Allows you to put in your discussion section in a p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ge History – Will display the page his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 of Links to this p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g Cloud – Will display a cloud of words if you tag your pag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p Contributors  - Display those that add the most to your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– Gives you the ability to paste in any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752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85724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2514600" y="150804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teachertube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ideo widgets will allow you to put in a video from one of these site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order to put a video in you have to grab the code.  Scroll down to where you see Embeddable w/out Video Sear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click in the box it will highlight everything.  CTRL+C to cop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2610000" y="3552840"/>
            <a:ext cx="34099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59:49Z</dcterms:created>
  <dc:creator>MCSD</dc:creator>
  <dc:description/>
  <dc:language>en-US</dc:language>
  <cp:lastModifiedBy>MCSD</cp:lastModifiedBy>
  <dcterms:modified xsi:type="dcterms:W3CDTF">2009-03-02T19:38:40Z</dcterms:modified>
  <cp:revision>9</cp:revision>
  <dc:subject/>
  <dc:title>Adding Content to Your Wiki</dc:title>
</cp:coreProperties>
</file>