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E904-C330-4B06-AF59-C95EB225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3149-3F81-484B-A9F8-7BA7E4AD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8F56-6AB1-4E13-9185-DC3BBC87B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D0F0-3B9A-43A4-95F2-F496ACDF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8656-185D-4E9A-BD50-02B9516F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D1F1-45F2-43DB-B270-D6BD8711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6C49-835F-4FA5-A4CA-0DCFA1FB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D170-BD77-422D-A715-8BD3D10C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07CD-47B0-423E-93A4-34087DC6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0190-C591-4293-895D-8F91FFD4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573A-CD5D-4B42-A477-EB604FA6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14A5-EA33-46DA-AD9F-6173EBBE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6FA5-0E2E-4EE7-B573-59CCF76FC0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important is the information on your web p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not showing you sites to criticize the creator.  The idea is to show you how the outside views our webpage and their conten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the best way to understand the content that should be on a page is to look at the spectrum of examples and realize what is missing or what you are glad is t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is this importa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mentary – Parents want to know what there kids are doing and about their teac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ddle – Parents and students will use this to get to know staff and what they will be doing in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– Although both parents and students will use the web pages for information, for many students this is how they find out about the school before coming 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comp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ek021.k12.sd.u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Webs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t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rutland.k12.sd.us/bloker/BlokerHome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pooky.wikispaces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Websites for both teac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ove the Fo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50840" y="1371600"/>
            <a:ext cx="8896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2880" y="2743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“F” Meth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5" descr="website.jpg"/>
          <p:cNvPicPr/>
          <p:nvPr/>
        </p:nvPicPr>
        <p:blipFill>
          <a:blip r:embed="rId1"/>
          <a:stretch/>
        </p:blipFill>
        <p:spPr>
          <a:xfrm>
            <a:off x="228600" y="152280"/>
            <a:ext cx="4495680" cy="6588360"/>
          </a:xfrm>
          <a:prstGeom prst="rect">
            <a:avLst/>
          </a:prstGeom>
          <a:ln w="0">
            <a:noFill/>
          </a:ln>
        </p:spPr>
      </p:pic>
      <p:sp>
        <p:nvSpPr>
          <p:cNvPr id="53" name="Ink 5"/>
          <p:cNvSpPr/>
          <p:nvPr/>
        </p:nvSpPr>
        <p:spPr>
          <a:xfrm>
            <a:off x="353880" y="357120"/>
            <a:ext cx="3676680" cy="3017880"/>
          </a:xfrm>
          <a:custGeom>
            <a:avLst/>
            <a:gdLst/>
            <a:ahLst/>
            <a:rect l="l" t="t" r="r" b="b"/>
            <a:pathLst>
              <a:path w="10212" h="8383">
                <a:moveTo>
                  <a:pt x="3772" y="991"/>
                </a:moveTo>
                <a:lnTo>
                  <a:pt x="4831" y="1157"/>
                </a:lnTo>
                <a:lnTo>
                  <a:pt x="5892" y="1239"/>
                </a:lnTo>
                <a:lnTo>
                  <a:pt x="6960" y="1285"/>
                </a:lnTo>
                <a:lnTo>
                  <a:pt x="7699" y="1317"/>
                </a:lnTo>
                <a:lnTo>
                  <a:pt x="9087" y="1153"/>
                </a:lnTo>
                <a:lnTo>
                  <a:pt x="9752" y="1547"/>
                </a:lnTo>
                <a:lnTo>
                  <a:pt x="9810" y="1581"/>
                </a:lnTo>
                <a:lnTo>
                  <a:pt x="9938" y="1600"/>
                </a:lnTo>
                <a:lnTo>
                  <a:pt x="9832" y="1666"/>
                </a:lnTo>
                <a:lnTo>
                  <a:pt x="9473" y="1892"/>
                </a:lnTo>
                <a:lnTo>
                  <a:pt x="8516" y="1652"/>
                </a:lnTo>
                <a:lnTo>
                  <a:pt x="8133" y="1618"/>
                </a:lnTo>
                <a:lnTo>
                  <a:pt x="6882" y="1508"/>
                </a:lnTo>
                <a:lnTo>
                  <a:pt x="5632" y="1384"/>
                </a:lnTo>
                <a:lnTo>
                  <a:pt x="4379" y="1308"/>
                </a:lnTo>
                <a:lnTo>
                  <a:pt x="3808" y="1274"/>
                </a:lnTo>
                <a:lnTo>
                  <a:pt x="3240" y="1250"/>
                </a:lnTo>
                <a:lnTo>
                  <a:pt x="2668" y="1248"/>
                </a:lnTo>
                <a:lnTo>
                  <a:pt x="2593" y="1252"/>
                </a:lnTo>
                <a:lnTo>
                  <a:pt x="1207" y="1316"/>
                </a:lnTo>
                <a:lnTo>
                  <a:pt x="1220" y="1409"/>
                </a:lnTo>
                <a:lnTo>
                  <a:pt x="1232" y="1495"/>
                </a:lnTo>
                <a:lnTo>
                  <a:pt x="1531" y="1470"/>
                </a:lnTo>
                <a:lnTo>
                  <a:pt x="1579" y="1472"/>
                </a:lnTo>
                <a:lnTo>
                  <a:pt x="3252" y="1533"/>
                </a:lnTo>
                <a:lnTo>
                  <a:pt x="4995" y="1340"/>
                </a:lnTo>
                <a:lnTo>
                  <a:pt x="6674" y="1300"/>
                </a:lnTo>
                <a:lnTo>
                  <a:pt x="8063" y="1267"/>
                </a:lnTo>
                <a:lnTo>
                  <a:pt x="9463" y="1187"/>
                </a:lnTo>
                <a:lnTo>
                  <a:pt x="10852" y="1256"/>
                </a:lnTo>
                <a:lnTo>
                  <a:pt x="10969" y="1262"/>
                </a:lnTo>
                <a:lnTo>
                  <a:pt x="11085" y="1276"/>
                </a:lnTo>
                <a:lnTo>
                  <a:pt x="11195" y="1293"/>
                </a:lnTo>
                <a:lnTo>
                  <a:pt x="11184" y="1298"/>
                </a:lnTo>
                <a:lnTo>
                  <a:pt x="11172" y="1303"/>
                </a:lnTo>
                <a:lnTo>
                  <a:pt x="11161" y="1308"/>
                </a:lnTo>
                <a:lnTo>
                  <a:pt x="10199" y="1381"/>
                </a:lnTo>
                <a:lnTo>
                  <a:pt x="9235" y="1359"/>
                </a:lnTo>
                <a:lnTo>
                  <a:pt x="8270" y="1364"/>
                </a:lnTo>
                <a:lnTo>
                  <a:pt x="7434" y="1369"/>
                </a:lnTo>
                <a:lnTo>
                  <a:pt x="6597" y="1373"/>
                </a:lnTo>
                <a:lnTo>
                  <a:pt x="5761" y="1379"/>
                </a:lnTo>
                <a:lnTo>
                  <a:pt x="4508" y="1387"/>
                </a:lnTo>
                <a:lnTo>
                  <a:pt x="3228" y="1415"/>
                </a:lnTo>
                <a:lnTo>
                  <a:pt x="1988" y="1621"/>
                </a:lnTo>
                <a:lnTo>
                  <a:pt x="1846" y="1645"/>
                </a:lnTo>
                <a:lnTo>
                  <a:pt x="1727" y="1712"/>
                </a:lnTo>
                <a:lnTo>
                  <a:pt x="1610" y="1744"/>
                </a:lnTo>
                <a:lnTo>
                  <a:pt x="1822" y="1755"/>
                </a:lnTo>
                <a:lnTo>
                  <a:pt x="2042" y="1781"/>
                </a:lnTo>
                <a:lnTo>
                  <a:pt x="2263" y="1778"/>
                </a:lnTo>
                <a:lnTo>
                  <a:pt x="4981" y="1745"/>
                </a:lnTo>
                <a:lnTo>
                  <a:pt x="7815" y="1480"/>
                </a:lnTo>
                <a:lnTo>
                  <a:pt x="10523" y="1838"/>
                </a:lnTo>
                <a:lnTo>
                  <a:pt x="10621" y="1851"/>
                </a:lnTo>
                <a:lnTo>
                  <a:pt x="10866" y="1937"/>
                </a:lnTo>
                <a:lnTo>
                  <a:pt x="10886" y="1942"/>
                </a:lnTo>
                <a:lnTo>
                  <a:pt x="9945" y="2012"/>
                </a:lnTo>
                <a:lnTo>
                  <a:pt x="9034" y="1965"/>
                </a:lnTo>
                <a:lnTo>
                  <a:pt x="8079" y="1931"/>
                </a:lnTo>
                <a:lnTo>
                  <a:pt x="7197" y="1900"/>
                </a:lnTo>
                <a:lnTo>
                  <a:pt x="6317" y="1879"/>
                </a:lnTo>
                <a:lnTo>
                  <a:pt x="5433" y="1868"/>
                </a:lnTo>
                <a:lnTo>
                  <a:pt x="4623" y="1858"/>
                </a:lnTo>
                <a:lnTo>
                  <a:pt x="3796" y="1888"/>
                </a:lnTo>
                <a:lnTo>
                  <a:pt x="2992" y="1916"/>
                </a:lnTo>
                <a:lnTo>
                  <a:pt x="2836" y="1921"/>
                </a:lnTo>
                <a:lnTo>
                  <a:pt x="2766" y="1925"/>
                </a:lnTo>
                <a:lnTo>
                  <a:pt x="2653" y="1939"/>
                </a:lnTo>
                <a:lnTo>
                  <a:pt x="2244" y="1965"/>
                </a:lnTo>
                <a:lnTo>
                  <a:pt x="1146" y="1770"/>
                </a:lnTo>
                <a:lnTo>
                  <a:pt x="1438" y="2058"/>
                </a:lnTo>
                <a:lnTo>
                  <a:pt x="1571" y="2189"/>
                </a:lnTo>
                <a:lnTo>
                  <a:pt x="2207" y="2077"/>
                </a:lnTo>
                <a:lnTo>
                  <a:pt x="2359" y="2073"/>
                </a:lnTo>
                <a:lnTo>
                  <a:pt x="3967" y="2035"/>
                </a:lnTo>
                <a:lnTo>
                  <a:pt x="5550" y="1933"/>
                </a:lnTo>
                <a:lnTo>
                  <a:pt x="7159" y="1931"/>
                </a:lnTo>
                <a:lnTo>
                  <a:pt x="8070" y="1930"/>
                </a:lnTo>
                <a:lnTo>
                  <a:pt x="9025" y="2013"/>
                </a:lnTo>
                <a:lnTo>
                  <a:pt x="9920" y="2092"/>
                </a:lnTo>
                <a:lnTo>
                  <a:pt x="10287" y="2124"/>
                </a:lnTo>
                <a:lnTo>
                  <a:pt x="10650" y="2209"/>
                </a:lnTo>
                <a:lnTo>
                  <a:pt x="10993" y="2301"/>
                </a:lnTo>
                <a:lnTo>
                  <a:pt x="10836" y="2318"/>
                </a:lnTo>
                <a:lnTo>
                  <a:pt x="10666" y="2354"/>
                </a:lnTo>
                <a:lnTo>
                  <a:pt x="10497" y="2357"/>
                </a:lnTo>
                <a:lnTo>
                  <a:pt x="7926" y="2398"/>
                </a:lnTo>
                <a:lnTo>
                  <a:pt x="5397" y="2012"/>
                </a:lnTo>
                <a:lnTo>
                  <a:pt x="2817" y="2174"/>
                </a:lnTo>
                <a:lnTo>
                  <a:pt x="2499" y="2194"/>
                </a:lnTo>
                <a:lnTo>
                  <a:pt x="2186" y="2260"/>
                </a:lnTo>
                <a:lnTo>
                  <a:pt x="1874" y="2315"/>
                </a:lnTo>
                <a:lnTo>
                  <a:pt x="1980" y="2332"/>
                </a:lnTo>
                <a:lnTo>
                  <a:pt x="2029" y="2376"/>
                </a:lnTo>
                <a:lnTo>
                  <a:pt x="2137" y="2383"/>
                </a:lnTo>
                <a:lnTo>
                  <a:pt x="2977" y="2434"/>
                </a:lnTo>
                <a:lnTo>
                  <a:pt x="3854" y="2403"/>
                </a:lnTo>
                <a:lnTo>
                  <a:pt x="4684" y="2409"/>
                </a:lnTo>
                <a:lnTo>
                  <a:pt x="5522" y="2415"/>
                </a:lnTo>
                <a:lnTo>
                  <a:pt x="6360" y="2419"/>
                </a:lnTo>
                <a:lnTo>
                  <a:pt x="7197" y="2416"/>
                </a:lnTo>
                <a:lnTo>
                  <a:pt x="8481" y="2412"/>
                </a:lnTo>
                <a:lnTo>
                  <a:pt x="9780" y="2380"/>
                </a:lnTo>
                <a:lnTo>
                  <a:pt x="11054" y="2461"/>
                </a:lnTo>
                <a:lnTo>
                  <a:pt x="10704" y="2486"/>
                </a:lnTo>
                <a:lnTo>
                  <a:pt x="10356" y="2505"/>
                </a:lnTo>
                <a:lnTo>
                  <a:pt x="10004" y="2510"/>
                </a:lnTo>
                <a:lnTo>
                  <a:pt x="9192" y="2522"/>
                </a:lnTo>
                <a:lnTo>
                  <a:pt x="8380" y="2538"/>
                </a:lnTo>
                <a:lnTo>
                  <a:pt x="7568" y="2543"/>
                </a:lnTo>
                <a:lnTo>
                  <a:pt x="6706" y="2549"/>
                </a:lnTo>
                <a:lnTo>
                  <a:pt x="5868" y="2543"/>
                </a:lnTo>
                <a:lnTo>
                  <a:pt x="5013" y="2588"/>
                </a:lnTo>
                <a:lnTo>
                  <a:pt x="4259" y="2627"/>
                </a:lnTo>
                <a:lnTo>
                  <a:pt x="3528" y="2670"/>
                </a:lnTo>
                <a:lnTo>
                  <a:pt x="2782" y="2722"/>
                </a:lnTo>
                <a:lnTo>
                  <a:pt x="2374" y="2750"/>
                </a:lnTo>
                <a:lnTo>
                  <a:pt x="1959" y="2774"/>
                </a:lnTo>
                <a:lnTo>
                  <a:pt x="1557" y="2831"/>
                </a:lnTo>
                <a:lnTo>
                  <a:pt x="1557" y="2833"/>
                </a:lnTo>
                <a:lnTo>
                  <a:pt x="1557" y="2836"/>
                </a:lnTo>
                <a:lnTo>
                  <a:pt x="1557" y="2838"/>
                </a:lnTo>
                <a:lnTo>
                  <a:pt x="1770" y="2842"/>
                </a:lnTo>
                <a:lnTo>
                  <a:pt x="1987" y="2852"/>
                </a:lnTo>
                <a:lnTo>
                  <a:pt x="2202" y="2853"/>
                </a:lnTo>
                <a:lnTo>
                  <a:pt x="3937" y="2859"/>
                </a:lnTo>
                <a:lnTo>
                  <a:pt x="5650" y="2868"/>
                </a:lnTo>
                <a:lnTo>
                  <a:pt x="7384" y="2928"/>
                </a:lnTo>
                <a:lnTo>
                  <a:pt x="8310" y="2960"/>
                </a:lnTo>
                <a:lnTo>
                  <a:pt x="9236" y="3000"/>
                </a:lnTo>
                <a:lnTo>
                  <a:pt x="10161" y="3051"/>
                </a:lnTo>
                <a:lnTo>
                  <a:pt x="10490" y="3079"/>
                </a:lnTo>
                <a:lnTo>
                  <a:pt x="11419" y="2999"/>
                </a:lnTo>
                <a:lnTo>
                  <a:pt x="11134" y="3166"/>
                </a:lnTo>
                <a:lnTo>
                  <a:pt x="10935" y="3283"/>
                </a:lnTo>
                <a:lnTo>
                  <a:pt x="10462" y="3168"/>
                </a:lnTo>
                <a:lnTo>
                  <a:pt x="10256" y="3155"/>
                </a:lnTo>
                <a:lnTo>
                  <a:pt x="8457" y="3042"/>
                </a:lnTo>
                <a:lnTo>
                  <a:pt x="6705" y="2931"/>
                </a:lnTo>
                <a:lnTo>
                  <a:pt x="4902" y="2957"/>
                </a:lnTo>
                <a:lnTo>
                  <a:pt x="4696" y="2960"/>
                </a:lnTo>
                <a:lnTo>
                  <a:pt x="2600" y="3097"/>
                </a:lnTo>
                <a:lnTo>
                  <a:pt x="2614" y="3286"/>
                </a:lnTo>
                <a:lnTo>
                  <a:pt x="2622" y="3385"/>
                </a:lnTo>
                <a:lnTo>
                  <a:pt x="2840" y="3325"/>
                </a:lnTo>
                <a:lnTo>
                  <a:pt x="2863" y="3372"/>
                </a:lnTo>
                <a:lnTo>
                  <a:pt x="3813" y="3383"/>
                </a:lnTo>
                <a:lnTo>
                  <a:pt x="4764" y="3369"/>
                </a:lnTo>
                <a:lnTo>
                  <a:pt x="5715" y="3357"/>
                </a:lnTo>
                <a:lnTo>
                  <a:pt x="6607" y="3346"/>
                </a:lnTo>
                <a:lnTo>
                  <a:pt x="7501" y="3315"/>
                </a:lnTo>
                <a:lnTo>
                  <a:pt x="8392" y="3297"/>
                </a:lnTo>
                <a:lnTo>
                  <a:pt x="9129" y="3282"/>
                </a:lnTo>
                <a:lnTo>
                  <a:pt x="9867" y="3279"/>
                </a:lnTo>
                <a:lnTo>
                  <a:pt x="10604" y="3297"/>
                </a:lnTo>
                <a:lnTo>
                  <a:pt x="10513" y="3305"/>
                </a:lnTo>
                <a:lnTo>
                  <a:pt x="10512" y="3338"/>
                </a:lnTo>
                <a:lnTo>
                  <a:pt x="10420" y="3342"/>
                </a:lnTo>
                <a:lnTo>
                  <a:pt x="8622" y="3420"/>
                </a:lnTo>
                <a:lnTo>
                  <a:pt x="6813" y="3205"/>
                </a:lnTo>
                <a:lnTo>
                  <a:pt x="5013" y="3226"/>
                </a:lnTo>
                <a:lnTo>
                  <a:pt x="4114" y="3236"/>
                </a:lnTo>
                <a:lnTo>
                  <a:pt x="3210" y="3358"/>
                </a:lnTo>
                <a:lnTo>
                  <a:pt x="2317" y="3454"/>
                </a:lnTo>
                <a:lnTo>
                  <a:pt x="2191" y="3480"/>
                </a:lnTo>
                <a:lnTo>
                  <a:pt x="1823" y="3453"/>
                </a:lnTo>
                <a:lnTo>
                  <a:pt x="1938" y="3510"/>
                </a:lnTo>
                <a:lnTo>
                  <a:pt x="2069" y="3575"/>
                </a:lnTo>
                <a:lnTo>
                  <a:pt x="2360" y="3515"/>
                </a:lnTo>
                <a:lnTo>
                  <a:pt x="2496" y="3514"/>
                </a:lnTo>
                <a:lnTo>
                  <a:pt x="3533" y="3508"/>
                </a:lnTo>
                <a:lnTo>
                  <a:pt x="4570" y="3455"/>
                </a:lnTo>
                <a:lnTo>
                  <a:pt x="5608" y="3469"/>
                </a:lnTo>
                <a:lnTo>
                  <a:pt x="6379" y="3479"/>
                </a:lnTo>
                <a:lnTo>
                  <a:pt x="7147" y="3477"/>
                </a:lnTo>
                <a:lnTo>
                  <a:pt x="7915" y="3525"/>
                </a:lnTo>
                <a:lnTo>
                  <a:pt x="9005" y="3593"/>
                </a:lnTo>
                <a:lnTo>
                  <a:pt x="10088" y="3741"/>
                </a:lnTo>
                <a:lnTo>
                  <a:pt x="11176" y="3831"/>
                </a:lnTo>
                <a:lnTo>
                  <a:pt x="9841" y="3843"/>
                </a:lnTo>
                <a:lnTo>
                  <a:pt x="8505" y="3861"/>
                </a:lnTo>
                <a:lnTo>
                  <a:pt x="7170" y="3872"/>
                </a:lnTo>
                <a:lnTo>
                  <a:pt x="6278" y="3879"/>
                </a:lnTo>
                <a:lnTo>
                  <a:pt x="5388" y="3916"/>
                </a:lnTo>
                <a:lnTo>
                  <a:pt x="4497" y="3947"/>
                </a:lnTo>
                <a:lnTo>
                  <a:pt x="3703" y="3975"/>
                </a:lnTo>
                <a:lnTo>
                  <a:pt x="1565" y="3477"/>
                </a:lnTo>
                <a:lnTo>
                  <a:pt x="2118" y="4047"/>
                </a:lnTo>
                <a:lnTo>
                  <a:pt x="2154" y="4084"/>
                </a:lnTo>
                <a:lnTo>
                  <a:pt x="2450" y="4057"/>
                </a:lnTo>
                <a:lnTo>
                  <a:pt x="2488" y="4058"/>
                </a:lnTo>
                <a:lnTo>
                  <a:pt x="3418" y="4072"/>
                </a:lnTo>
                <a:lnTo>
                  <a:pt x="4345" y="4077"/>
                </a:lnTo>
                <a:lnTo>
                  <a:pt x="5276" y="4100"/>
                </a:lnTo>
                <a:lnTo>
                  <a:pt x="6220" y="4124"/>
                </a:lnTo>
                <a:lnTo>
                  <a:pt x="7154" y="4151"/>
                </a:lnTo>
                <a:lnTo>
                  <a:pt x="8102" y="4152"/>
                </a:lnTo>
                <a:lnTo>
                  <a:pt x="8885" y="4153"/>
                </a:lnTo>
                <a:lnTo>
                  <a:pt x="9865" y="3973"/>
                </a:lnTo>
                <a:lnTo>
                  <a:pt x="10592" y="4170"/>
                </a:lnTo>
                <a:lnTo>
                  <a:pt x="10569" y="4178"/>
                </a:lnTo>
                <a:lnTo>
                  <a:pt x="10546" y="4185"/>
                </a:lnTo>
                <a:lnTo>
                  <a:pt x="10523" y="4193"/>
                </a:lnTo>
                <a:lnTo>
                  <a:pt x="9304" y="4320"/>
                </a:lnTo>
                <a:lnTo>
                  <a:pt x="8092" y="4277"/>
                </a:lnTo>
                <a:lnTo>
                  <a:pt x="6865" y="4267"/>
                </a:lnTo>
                <a:lnTo>
                  <a:pt x="5340" y="4255"/>
                </a:lnTo>
                <a:lnTo>
                  <a:pt x="3814" y="4321"/>
                </a:lnTo>
                <a:lnTo>
                  <a:pt x="2290" y="4271"/>
                </a:lnTo>
                <a:lnTo>
                  <a:pt x="2136" y="4266"/>
                </a:lnTo>
                <a:lnTo>
                  <a:pt x="1982" y="4261"/>
                </a:lnTo>
                <a:lnTo>
                  <a:pt x="1828" y="4256"/>
                </a:lnTo>
                <a:lnTo>
                  <a:pt x="2434" y="4310"/>
                </a:lnTo>
                <a:lnTo>
                  <a:pt x="3036" y="4410"/>
                </a:lnTo>
                <a:lnTo>
                  <a:pt x="3642" y="4469"/>
                </a:lnTo>
                <a:lnTo>
                  <a:pt x="4585" y="4561"/>
                </a:lnTo>
                <a:lnTo>
                  <a:pt x="5418" y="4646"/>
                </a:lnTo>
                <a:lnTo>
                  <a:pt x="6342" y="4644"/>
                </a:lnTo>
                <a:lnTo>
                  <a:pt x="7493" y="4642"/>
                </a:lnTo>
                <a:lnTo>
                  <a:pt x="8644" y="4606"/>
                </a:lnTo>
                <a:lnTo>
                  <a:pt x="9794" y="4607"/>
                </a:lnTo>
                <a:lnTo>
                  <a:pt x="9973" y="4607"/>
                </a:lnTo>
                <a:lnTo>
                  <a:pt x="10153" y="4605"/>
                </a:lnTo>
                <a:lnTo>
                  <a:pt x="10332" y="4607"/>
                </a:lnTo>
                <a:lnTo>
                  <a:pt x="9208" y="4635"/>
                </a:lnTo>
                <a:lnTo>
                  <a:pt x="8084" y="4680"/>
                </a:lnTo>
                <a:lnTo>
                  <a:pt x="6960" y="4719"/>
                </a:lnTo>
                <a:lnTo>
                  <a:pt x="5436" y="4772"/>
                </a:lnTo>
                <a:lnTo>
                  <a:pt x="3903" y="4868"/>
                </a:lnTo>
                <a:lnTo>
                  <a:pt x="2378" y="4835"/>
                </a:lnTo>
                <a:lnTo>
                  <a:pt x="2338" y="4834"/>
                </a:lnTo>
                <a:lnTo>
                  <a:pt x="1866" y="4817"/>
                </a:lnTo>
                <a:lnTo>
                  <a:pt x="1889" y="4783"/>
                </a:lnTo>
                <a:lnTo>
                  <a:pt x="1981" y="4646"/>
                </a:lnTo>
                <a:lnTo>
                  <a:pt x="2542" y="4651"/>
                </a:lnTo>
                <a:lnTo>
                  <a:pt x="2687" y="4630"/>
                </a:lnTo>
                <a:lnTo>
                  <a:pt x="3101" y="4571"/>
                </a:lnTo>
                <a:lnTo>
                  <a:pt x="4192" y="4220"/>
                </a:lnTo>
                <a:lnTo>
                  <a:pt x="3924" y="4540"/>
                </a:lnTo>
                <a:lnTo>
                  <a:pt x="3885" y="4586"/>
                </a:lnTo>
                <a:lnTo>
                  <a:pt x="3715" y="4548"/>
                </a:lnTo>
                <a:lnTo>
                  <a:pt x="3665" y="4559"/>
                </a:lnTo>
                <a:lnTo>
                  <a:pt x="3159" y="4575"/>
                </a:lnTo>
                <a:lnTo>
                  <a:pt x="2189" y="4862"/>
                </a:lnTo>
                <a:lnTo>
                  <a:pt x="1725" y="4678"/>
                </a:lnTo>
                <a:lnTo>
                  <a:pt x="1713" y="4673"/>
                </a:lnTo>
                <a:lnTo>
                  <a:pt x="1710" y="4687"/>
                </a:lnTo>
                <a:lnTo>
                  <a:pt x="1698" y="4682"/>
                </a:lnTo>
                <a:lnTo>
                  <a:pt x="1657" y="4664"/>
                </a:lnTo>
                <a:lnTo>
                  <a:pt x="1646" y="4547"/>
                </a:lnTo>
                <a:lnTo>
                  <a:pt x="1579" y="4532"/>
                </a:lnTo>
                <a:lnTo>
                  <a:pt x="1558" y="4527"/>
                </a:lnTo>
                <a:lnTo>
                  <a:pt x="1456" y="4420"/>
                </a:lnTo>
                <a:lnTo>
                  <a:pt x="1438" y="4432"/>
                </a:lnTo>
                <a:lnTo>
                  <a:pt x="1390" y="4464"/>
                </a:lnTo>
                <a:lnTo>
                  <a:pt x="1405" y="4516"/>
                </a:lnTo>
                <a:lnTo>
                  <a:pt x="1385" y="4581"/>
                </a:lnTo>
                <a:lnTo>
                  <a:pt x="1338" y="4737"/>
                </a:lnTo>
                <a:lnTo>
                  <a:pt x="1389" y="4951"/>
                </a:lnTo>
                <a:lnTo>
                  <a:pt x="1392" y="5111"/>
                </a:lnTo>
                <a:lnTo>
                  <a:pt x="1408" y="5876"/>
                </a:lnTo>
                <a:lnTo>
                  <a:pt x="1311" y="6629"/>
                </a:lnTo>
                <a:lnTo>
                  <a:pt x="1270" y="7391"/>
                </a:lnTo>
                <a:lnTo>
                  <a:pt x="1265" y="7345"/>
                </a:lnTo>
                <a:lnTo>
                  <a:pt x="1246" y="7329"/>
                </a:lnTo>
                <a:lnTo>
                  <a:pt x="1243" y="7283"/>
                </a:lnTo>
                <a:lnTo>
                  <a:pt x="1193" y="6577"/>
                </a:lnTo>
                <a:lnTo>
                  <a:pt x="614" y="4839"/>
                </a:lnTo>
                <a:lnTo>
                  <a:pt x="1243" y="5163"/>
                </a:lnTo>
                <a:lnTo>
                  <a:pt x="1322" y="5204"/>
                </a:lnTo>
                <a:lnTo>
                  <a:pt x="1317" y="5466"/>
                </a:lnTo>
                <a:lnTo>
                  <a:pt x="1324" y="5529"/>
                </a:lnTo>
                <a:lnTo>
                  <a:pt x="1405" y="6312"/>
                </a:lnTo>
                <a:lnTo>
                  <a:pt x="1056" y="7831"/>
                </a:lnTo>
                <a:lnTo>
                  <a:pt x="1404" y="8522"/>
                </a:lnTo>
                <a:lnTo>
                  <a:pt x="1434" y="8581"/>
                </a:lnTo>
                <a:lnTo>
                  <a:pt x="1380" y="8676"/>
                </a:lnTo>
                <a:lnTo>
                  <a:pt x="1434" y="8593"/>
                </a:lnTo>
                <a:lnTo>
                  <a:pt x="1740" y="8120"/>
                </a:lnTo>
                <a:lnTo>
                  <a:pt x="1591" y="7026"/>
                </a:lnTo>
                <a:lnTo>
                  <a:pt x="1606" y="6492"/>
                </a:lnTo>
                <a:lnTo>
                  <a:pt x="1619" y="6034"/>
                </a:lnTo>
                <a:lnTo>
                  <a:pt x="1628" y="5511"/>
                </a:lnTo>
                <a:lnTo>
                  <a:pt x="1576" y="5081"/>
                </a:lnTo>
                <a:lnTo>
                  <a:pt x="1575" y="5102"/>
                </a:lnTo>
                <a:lnTo>
                  <a:pt x="1573" y="5124"/>
                </a:lnTo>
                <a:lnTo>
                  <a:pt x="1572" y="5145"/>
                </a:lnTo>
                <a:lnTo>
                  <a:pt x="1482" y="6240"/>
                </a:lnTo>
                <a:lnTo>
                  <a:pt x="1106" y="9368"/>
                </a:lnTo>
                <a:lnTo>
                  <a:pt x="1492" y="8339"/>
                </a:lnTo>
                <a:lnTo>
                  <a:pt x="1728" y="7710"/>
                </a:lnTo>
                <a:lnTo>
                  <a:pt x="1608" y="6801"/>
                </a:lnTo>
                <a:lnTo>
                  <a:pt x="1621" y="6141"/>
                </a:lnTo>
                <a:lnTo>
                  <a:pt x="1621" y="5854"/>
                </a:lnTo>
                <a:lnTo>
                  <a:pt x="1668" y="5003"/>
                </a:lnTo>
                <a:lnTo>
                  <a:pt x="1621" y="5286"/>
                </a:lnTo>
                <a:lnTo>
                  <a:pt x="1494" y="6056"/>
                </a:lnTo>
                <a:lnTo>
                  <a:pt x="1506" y="6877"/>
                </a:lnTo>
                <a:lnTo>
                  <a:pt x="1431" y="7656"/>
                </a:lnTo>
                <a:lnTo>
                  <a:pt x="1411" y="7834"/>
                </a:lnTo>
                <a:lnTo>
                  <a:pt x="1341" y="8367"/>
                </a:lnTo>
                <a:lnTo>
                  <a:pt x="1373" y="8190"/>
                </a:lnTo>
                <a:lnTo>
                  <a:pt x="1431" y="7872"/>
                </a:lnTo>
                <a:lnTo>
                  <a:pt x="1466" y="7541"/>
                </a:lnTo>
                <a:lnTo>
                  <a:pt x="1511" y="7220"/>
                </a:lnTo>
                <a:lnTo>
                  <a:pt x="1624" y="6410"/>
                </a:lnTo>
                <a:lnTo>
                  <a:pt x="2173" y="4117"/>
                </a:lnTo>
                <a:lnTo>
                  <a:pt x="1709" y="4790"/>
                </a:lnTo>
                <a:lnTo>
                  <a:pt x="1584" y="4972"/>
                </a:lnTo>
                <a:lnTo>
                  <a:pt x="1608" y="5500"/>
                </a:lnTo>
                <a:lnTo>
                  <a:pt x="1576" y="5708"/>
                </a:lnTo>
                <a:lnTo>
                  <a:pt x="1434" y="6642"/>
                </a:lnTo>
                <a:lnTo>
                  <a:pt x="1317" y="7650"/>
                </a:lnTo>
                <a:lnTo>
                  <a:pt x="1010" y="8548"/>
                </a:lnTo>
                <a:lnTo>
                  <a:pt x="997" y="8568"/>
                </a:lnTo>
                <a:lnTo>
                  <a:pt x="994" y="8579"/>
                </a:lnTo>
                <a:lnTo>
                  <a:pt x="988" y="8556"/>
                </a:lnTo>
                <a:lnTo>
                  <a:pt x="1015" y="8298"/>
                </a:lnTo>
                <a:lnTo>
                  <a:pt x="1046" y="8039"/>
                </a:lnTo>
                <a:lnTo>
                  <a:pt x="1083" y="7780"/>
                </a:lnTo>
                <a:lnTo>
                  <a:pt x="1172" y="7163"/>
                </a:lnTo>
                <a:lnTo>
                  <a:pt x="1251" y="6541"/>
                </a:lnTo>
                <a:lnTo>
                  <a:pt x="1358" y="5928"/>
                </a:lnTo>
                <a:lnTo>
                  <a:pt x="1368" y="6011"/>
                </a:lnTo>
                <a:lnTo>
                  <a:pt x="1424" y="6189"/>
                </a:lnTo>
                <a:lnTo>
                  <a:pt x="1427" y="6302"/>
                </a:lnTo>
                <a:lnTo>
                  <a:pt x="1437" y="6691"/>
                </a:lnTo>
                <a:lnTo>
                  <a:pt x="968" y="8833"/>
                </a:lnTo>
                <a:lnTo>
                  <a:pt x="1186" y="9090"/>
                </a:lnTo>
                <a:lnTo>
                  <a:pt x="1229" y="9140"/>
                </a:lnTo>
                <a:lnTo>
                  <a:pt x="1269" y="9012"/>
                </a:lnTo>
                <a:lnTo>
                  <a:pt x="1331" y="9034"/>
                </a:lnTo>
                <a:lnTo>
                  <a:pt x="1733" y="9172"/>
                </a:lnTo>
                <a:lnTo>
                  <a:pt x="2250" y="9158"/>
                </a:lnTo>
                <a:lnTo>
                  <a:pt x="2668" y="9198"/>
                </a:lnTo>
                <a:lnTo>
                  <a:pt x="3949" y="9320"/>
                </a:lnTo>
                <a:lnTo>
                  <a:pt x="7623" y="9970"/>
                </a:lnTo>
                <a:lnTo>
                  <a:pt x="6514" y="9317"/>
                </a:lnTo>
                <a:lnTo>
                  <a:pt x="6388" y="9243"/>
                </a:lnTo>
                <a:lnTo>
                  <a:pt x="6218" y="9254"/>
                </a:lnTo>
                <a:lnTo>
                  <a:pt x="6078" y="9235"/>
                </a:lnTo>
                <a:lnTo>
                  <a:pt x="4602" y="9030"/>
                </a:lnTo>
                <a:lnTo>
                  <a:pt x="3114" y="8842"/>
                </a:lnTo>
                <a:lnTo>
                  <a:pt x="1625" y="8940"/>
                </a:lnTo>
                <a:lnTo>
                  <a:pt x="1600" y="8946"/>
                </a:lnTo>
                <a:lnTo>
                  <a:pt x="1110" y="8992"/>
                </a:lnTo>
                <a:lnTo>
                  <a:pt x="1114" y="9037"/>
                </a:lnTo>
                <a:lnTo>
                  <a:pt x="1121" y="9121"/>
                </a:lnTo>
                <a:lnTo>
                  <a:pt x="1219" y="9100"/>
                </a:lnTo>
                <a:lnTo>
                  <a:pt x="1358" y="9116"/>
                </a:lnTo>
                <a:lnTo>
                  <a:pt x="3338" y="9338"/>
                </a:lnTo>
                <a:lnTo>
                  <a:pt x="9163" y="9623"/>
                </a:lnTo>
                <a:lnTo>
                  <a:pt x="7231" y="9138"/>
                </a:lnTo>
                <a:lnTo>
                  <a:pt x="6074" y="8847"/>
                </a:lnTo>
                <a:lnTo>
                  <a:pt x="4514" y="8913"/>
                </a:lnTo>
                <a:lnTo>
                  <a:pt x="3382" y="8866"/>
                </a:lnTo>
                <a:lnTo>
                  <a:pt x="3036" y="8852"/>
                </a:lnTo>
                <a:lnTo>
                  <a:pt x="2691" y="8889"/>
                </a:lnTo>
                <a:lnTo>
                  <a:pt x="2347" y="8910"/>
                </a:lnTo>
                <a:lnTo>
                  <a:pt x="2122" y="8946"/>
                </a:lnTo>
                <a:lnTo>
                  <a:pt x="1491" y="8892"/>
                </a:lnTo>
                <a:lnTo>
                  <a:pt x="1675" y="9026"/>
                </a:lnTo>
                <a:lnTo>
                  <a:pt x="1773" y="9097"/>
                </a:lnTo>
                <a:lnTo>
                  <a:pt x="2168" y="9026"/>
                </a:lnTo>
                <a:lnTo>
                  <a:pt x="2263" y="9026"/>
                </a:lnTo>
                <a:lnTo>
                  <a:pt x="4107" y="9024"/>
                </a:lnTo>
                <a:lnTo>
                  <a:pt x="5949" y="9011"/>
                </a:lnTo>
                <a:lnTo>
                  <a:pt x="7793" y="8978"/>
                </a:lnTo>
                <a:lnTo>
                  <a:pt x="7926" y="8977"/>
                </a:lnTo>
                <a:lnTo>
                  <a:pt x="8503" y="8974"/>
                </a:lnTo>
                <a:lnTo>
                  <a:pt x="8480" y="8974"/>
                </a:lnTo>
                <a:lnTo>
                  <a:pt x="8176" y="8979"/>
                </a:lnTo>
                <a:lnTo>
                  <a:pt x="7872" y="8979"/>
                </a:lnTo>
                <a:lnTo>
                  <a:pt x="7568" y="8981"/>
                </a:lnTo>
                <a:lnTo>
                  <a:pt x="7132" y="8985"/>
                </a:lnTo>
                <a:lnTo>
                  <a:pt x="3103" y="8734"/>
                </a:lnTo>
                <a:lnTo>
                  <a:pt x="3027" y="9019"/>
                </a:lnTo>
                <a:lnTo>
                  <a:pt x="2999" y="9123"/>
                </a:lnTo>
                <a:lnTo>
                  <a:pt x="3211" y="9112"/>
                </a:lnTo>
                <a:lnTo>
                  <a:pt x="3275" y="9127"/>
                </a:lnTo>
                <a:lnTo>
                  <a:pt x="4569" y="9423"/>
                </a:lnTo>
                <a:lnTo>
                  <a:pt x="6196" y="9355"/>
                </a:lnTo>
                <a:lnTo>
                  <a:pt x="7503" y="9146"/>
                </a:lnTo>
                <a:lnTo>
                  <a:pt x="7532" y="9138"/>
                </a:lnTo>
                <a:lnTo>
                  <a:pt x="7561" y="9131"/>
                </a:lnTo>
                <a:lnTo>
                  <a:pt x="7590" y="9123"/>
                </a:lnTo>
                <a:lnTo>
                  <a:pt x="7526" y="9091"/>
                </a:lnTo>
                <a:lnTo>
                  <a:pt x="7607" y="9018"/>
                </a:lnTo>
                <a:lnTo>
                  <a:pt x="7537" y="9007"/>
                </a:lnTo>
                <a:lnTo>
                  <a:pt x="6624" y="8858"/>
                </a:lnTo>
                <a:lnTo>
                  <a:pt x="5637" y="9043"/>
                </a:lnTo>
                <a:lnTo>
                  <a:pt x="4719" y="9060"/>
                </a:lnTo>
                <a:lnTo>
                  <a:pt x="4591" y="9062"/>
                </a:lnTo>
                <a:lnTo>
                  <a:pt x="1943" y="8976"/>
                </a:lnTo>
                <a:lnTo>
                  <a:pt x="1946" y="8959"/>
                </a:lnTo>
                <a:lnTo>
                  <a:pt x="1951" y="8933"/>
                </a:lnTo>
                <a:lnTo>
                  <a:pt x="2067" y="8938"/>
                </a:lnTo>
                <a:lnTo>
                  <a:pt x="2076" y="8937"/>
                </a:lnTo>
                <a:lnTo>
                  <a:pt x="2161" y="8924"/>
                </a:lnTo>
                <a:lnTo>
                  <a:pt x="2945" y="8864"/>
                </a:lnTo>
                <a:lnTo>
                  <a:pt x="2970" y="8970"/>
                </a:lnTo>
                <a:lnTo>
                  <a:pt x="2986" y="9041"/>
                </a:lnTo>
                <a:lnTo>
                  <a:pt x="2848" y="9071"/>
                </a:lnTo>
                <a:lnTo>
                  <a:pt x="2809" y="9097"/>
                </a:lnTo>
                <a:lnTo>
                  <a:pt x="2604" y="9235"/>
                </a:lnTo>
                <a:lnTo>
                  <a:pt x="2159" y="9255"/>
                </a:lnTo>
                <a:lnTo>
                  <a:pt x="2003" y="9045"/>
                </a:lnTo>
                <a:lnTo>
                  <a:pt x="1806" y="8780"/>
                </a:lnTo>
                <a:lnTo>
                  <a:pt x="1972" y="8102"/>
                </a:lnTo>
                <a:lnTo>
                  <a:pt x="1996" y="7817"/>
                </a:lnTo>
                <a:lnTo>
                  <a:pt x="2074" y="6877"/>
                </a:lnTo>
                <a:lnTo>
                  <a:pt x="2127" y="5957"/>
                </a:lnTo>
                <a:lnTo>
                  <a:pt x="2114" y="5014"/>
                </a:lnTo>
                <a:lnTo>
                  <a:pt x="2111" y="4996"/>
                </a:lnTo>
                <a:lnTo>
                  <a:pt x="2086" y="4604"/>
                </a:lnTo>
                <a:lnTo>
                  <a:pt x="2064" y="4618"/>
                </a:lnTo>
                <a:lnTo>
                  <a:pt x="1812" y="4775"/>
                </a:lnTo>
                <a:lnTo>
                  <a:pt x="1833" y="6654"/>
                </a:lnTo>
                <a:lnTo>
                  <a:pt x="1797" y="6962"/>
                </a:lnTo>
                <a:lnTo>
                  <a:pt x="1727" y="7565"/>
                </a:lnTo>
                <a:lnTo>
                  <a:pt x="1565" y="8207"/>
                </a:lnTo>
                <a:lnTo>
                  <a:pt x="1579" y="8817"/>
                </a:lnTo>
                <a:lnTo>
                  <a:pt x="1580" y="8849"/>
                </a:lnTo>
                <a:lnTo>
                  <a:pt x="1611" y="8789"/>
                </a:lnTo>
                <a:lnTo>
                  <a:pt x="1610" y="8821"/>
                </a:lnTo>
                <a:lnTo>
                  <a:pt x="1889" y="7578"/>
                </a:lnTo>
                <a:lnTo>
                  <a:pt x="2302" y="3879"/>
                </a:lnTo>
                <a:lnTo>
                  <a:pt x="1904" y="5089"/>
                </a:lnTo>
                <a:lnTo>
                  <a:pt x="1534" y="6214"/>
                </a:lnTo>
                <a:lnTo>
                  <a:pt x="1578" y="7715"/>
                </a:lnTo>
                <a:lnTo>
                  <a:pt x="1591" y="8896"/>
                </a:lnTo>
                <a:lnTo>
                  <a:pt x="1613" y="8817"/>
                </a:lnTo>
                <a:lnTo>
                  <a:pt x="1660" y="8713"/>
                </a:lnTo>
                <a:lnTo>
                  <a:pt x="1679" y="8623"/>
                </a:lnTo>
                <a:lnTo>
                  <a:pt x="1959" y="7309"/>
                </a:lnTo>
                <a:lnTo>
                  <a:pt x="1834" y="3404"/>
                </a:lnTo>
                <a:lnTo>
                  <a:pt x="1671" y="4738"/>
                </a:lnTo>
                <a:lnTo>
                  <a:pt x="1527" y="5915"/>
                </a:lnTo>
                <a:lnTo>
                  <a:pt x="1701" y="7248"/>
                </a:lnTo>
                <a:lnTo>
                  <a:pt x="1786" y="8433"/>
                </a:lnTo>
                <a:lnTo>
                  <a:pt x="1796" y="8373"/>
                </a:lnTo>
                <a:lnTo>
                  <a:pt x="1821" y="8370"/>
                </a:lnTo>
                <a:lnTo>
                  <a:pt x="1828" y="8310"/>
                </a:lnTo>
                <a:lnTo>
                  <a:pt x="1941" y="7368"/>
                </a:lnTo>
                <a:lnTo>
                  <a:pt x="1831" y="6424"/>
                </a:lnTo>
                <a:lnTo>
                  <a:pt x="1690" y="5492"/>
                </a:lnTo>
                <a:lnTo>
                  <a:pt x="1680" y="5442"/>
                </a:lnTo>
                <a:lnTo>
                  <a:pt x="1618" y="4946"/>
                </a:lnTo>
                <a:lnTo>
                  <a:pt x="1614" y="5085"/>
                </a:lnTo>
                <a:lnTo>
                  <a:pt x="1571" y="6419"/>
                </a:lnTo>
                <a:lnTo>
                  <a:pt x="891" y="9844"/>
                </a:lnTo>
                <a:lnTo>
                  <a:pt x="1942" y="9022"/>
                </a:lnTo>
                <a:lnTo>
                  <a:pt x="2059" y="8930"/>
                </a:lnTo>
                <a:lnTo>
                  <a:pt x="2018" y="8317"/>
                </a:lnTo>
                <a:lnTo>
                  <a:pt x="2026" y="8198"/>
                </a:lnTo>
                <a:lnTo>
                  <a:pt x="2056" y="7742"/>
                </a:lnTo>
                <a:lnTo>
                  <a:pt x="2064" y="7284"/>
                </a:lnTo>
                <a:lnTo>
                  <a:pt x="2080" y="6828"/>
                </a:lnTo>
                <a:lnTo>
                  <a:pt x="2104" y="6167"/>
                </a:lnTo>
                <a:lnTo>
                  <a:pt x="2129" y="5494"/>
                </a:lnTo>
                <a:lnTo>
                  <a:pt x="2190" y="4839"/>
                </a:lnTo>
                <a:lnTo>
                  <a:pt x="2190" y="4850"/>
                </a:lnTo>
                <a:lnTo>
                  <a:pt x="2190" y="4861"/>
                </a:lnTo>
                <a:lnTo>
                  <a:pt x="2190" y="4872"/>
                </a:lnTo>
                <a:close/>
              </a:path>
            </a:pathLst>
          </a:custGeom>
          <a:noFill/>
          <a:ln cap="sq" w="7632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Ink 8"/>
          <p:cNvSpPr/>
          <p:nvPr/>
        </p:nvSpPr>
        <p:spPr>
          <a:xfrm>
            <a:off x="415800" y="3114720"/>
            <a:ext cx="412920" cy="2425680"/>
          </a:xfrm>
          <a:custGeom>
            <a:avLst/>
            <a:gdLst/>
            <a:ahLst/>
            <a:rect l="l" t="t" r="r" b="b"/>
            <a:pathLst>
              <a:path w="1146" h="6738">
                <a:moveTo>
                  <a:pt x="1778" y="9929"/>
                </a:moveTo>
                <a:lnTo>
                  <a:pt x="1741" y="10606"/>
                </a:lnTo>
                <a:lnTo>
                  <a:pt x="1680" y="11280"/>
                </a:lnTo>
                <a:lnTo>
                  <a:pt x="1621" y="11956"/>
                </a:lnTo>
                <a:lnTo>
                  <a:pt x="1607" y="12118"/>
                </a:lnTo>
                <a:lnTo>
                  <a:pt x="1606" y="13018"/>
                </a:lnTo>
                <a:lnTo>
                  <a:pt x="1465" y="13109"/>
                </a:lnTo>
                <a:lnTo>
                  <a:pt x="1402" y="13150"/>
                </a:lnTo>
                <a:lnTo>
                  <a:pt x="1395" y="13107"/>
                </a:lnTo>
                <a:lnTo>
                  <a:pt x="1366" y="13027"/>
                </a:lnTo>
                <a:lnTo>
                  <a:pt x="1258" y="12731"/>
                </a:lnTo>
                <a:lnTo>
                  <a:pt x="1257" y="12371"/>
                </a:lnTo>
                <a:lnTo>
                  <a:pt x="1240" y="12061"/>
                </a:lnTo>
                <a:lnTo>
                  <a:pt x="1217" y="11638"/>
                </a:lnTo>
                <a:lnTo>
                  <a:pt x="1196" y="11215"/>
                </a:lnTo>
                <a:lnTo>
                  <a:pt x="1182" y="10792"/>
                </a:lnTo>
                <a:lnTo>
                  <a:pt x="1177" y="10645"/>
                </a:lnTo>
                <a:lnTo>
                  <a:pt x="1043" y="8913"/>
                </a:lnTo>
                <a:lnTo>
                  <a:pt x="1182" y="8873"/>
                </a:lnTo>
                <a:lnTo>
                  <a:pt x="1229" y="8859"/>
                </a:lnTo>
                <a:lnTo>
                  <a:pt x="1206" y="8852"/>
                </a:lnTo>
                <a:lnTo>
                  <a:pt x="1236" y="9004"/>
                </a:lnTo>
                <a:lnTo>
                  <a:pt x="1432" y="9993"/>
                </a:lnTo>
                <a:lnTo>
                  <a:pt x="1449" y="11138"/>
                </a:lnTo>
                <a:lnTo>
                  <a:pt x="1545" y="12116"/>
                </a:lnTo>
                <a:lnTo>
                  <a:pt x="1548" y="12151"/>
                </a:lnTo>
                <a:lnTo>
                  <a:pt x="1550" y="12186"/>
                </a:lnTo>
                <a:lnTo>
                  <a:pt x="1553" y="12221"/>
                </a:lnTo>
                <a:lnTo>
                  <a:pt x="1600" y="12781"/>
                </a:lnTo>
                <a:lnTo>
                  <a:pt x="1626" y="13336"/>
                </a:lnTo>
                <a:lnTo>
                  <a:pt x="1629" y="13897"/>
                </a:lnTo>
                <a:lnTo>
                  <a:pt x="1629" y="13921"/>
                </a:lnTo>
                <a:lnTo>
                  <a:pt x="1629" y="13944"/>
                </a:lnTo>
                <a:lnTo>
                  <a:pt x="1629" y="13968"/>
                </a:lnTo>
                <a:lnTo>
                  <a:pt x="1595" y="13842"/>
                </a:lnTo>
                <a:lnTo>
                  <a:pt x="1582" y="13801"/>
                </a:lnTo>
                <a:lnTo>
                  <a:pt x="1560" y="13673"/>
                </a:lnTo>
                <a:lnTo>
                  <a:pt x="1377" y="12583"/>
                </a:lnTo>
                <a:lnTo>
                  <a:pt x="1366" y="11452"/>
                </a:lnTo>
                <a:lnTo>
                  <a:pt x="1324" y="10355"/>
                </a:lnTo>
                <a:lnTo>
                  <a:pt x="1316" y="10148"/>
                </a:lnTo>
                <a:lnTo>
                  <a:pt x="1214" y="8776"/>
                </a:lnTo>
                <a:lnTo>
                  <a:pt x="1404" y="8675"/>
                </a:lnTo>
                <a:lnTo>
                  <a:pt x="1445" y="8653"/>
                </a:lnTo>
                <a:lnTo>
                  <a:pt x="1439" y="8925"/>
                </a:lnTo>
                <a:lnTo>
                  <a:pt x="1442" y="8966"/>
                </a:lnTo>
                <a:lnTo>
                  <a:pt x="1499" y="9843"/>
                </a:lnTo>
                <a:lnTo>
                  <a:pt x="1536" y="10724"/>
                </a:lnTo>
                <a:lnTo>
                  <a:pt x="1587" y="11601"/>
                </a:lnTo>
                <a:lnTo>
                  <a:pt x="1617" y="12128"/>
                </a:lnTo>
                <a:lnTo>
                  <a:pt x="1689" y="12653"/>
                </a:lnTo>
                <a:lnTo>
                  <a:pt x="1725" y="13180"/>
                </a:lnTo>
                <a:lnTo>
                  <a:pt x="1752" y="13578"/>
                </a:lnTo>
                <a:lnTo>
                  <a:pt x="1745" y="13977"/>
                </a:lnTo>
                <a:lnTo>
                  <a:pt x="1770" y="14375"/>
                </a:lnTo>
                <a:lnTo>
                  <a:pt x="1780" y="14541"/>
                </a:lnTo>
                <a:lnTo>
                  <a:pt x="1775" y="14351"/>
                </a:lnTo>
                <a:lnTo>
                  <a:pt x="1770" y="14311"/>
                </a:lnTo>
                <a:lnTo>
                  <a:pt x="1763" y="14260"/>
                </a:lnTo>
                <a:lnTo>
                  <a:pt x="1755" y="14209"/>
                </a:lnTo>
                <a:lnTo>
                  <a:pt x="1748" y="14158"/>
                </a:lnTo>
                <a:lnTo>
                  <a:pt x="1583" y="12965"/>
                </a:lnTo>
                <a:lnTo>
                  <a:pt x="1528" y="11777"/>
                </a:lnTo>
                <a:lnTo>
                  <a:pt x="1503" y="10571"/>
                </a:lnTo>
                <a:lnTo>
                  <a:pt x="1500" y="10435"/>
                </a:lnTo>
                <a:lnTo>
                  <a:pt x="1597" y="8923"/>
                </a:lnTo>
                <a:lnTo>
                  <a:pt x="1690" y="8929"/>
                </a:lnTo>
                <a:lnTo>
                  <a:pt x="1775" y="8934"/>
                </a:lnTo>
                <a:lnTo>
                  <a:pt x="1780" y="9163"/>
                </a:lnTo>
                <a:lnTo>
                  <a:pt x="1790" y="9235"/>
                </a:lnTo>
                <a:lnTo>
                  <a:pt x="1971" y="10495"/>
                </a:lnTo>
                <a:lnTo>
                  <a:pt x="1985" y="11777"/>
                </a:lnTo>
                <a:lnTo>
                  <a:pt x="2126" y="13042"/>
                </a:lnTo>
                <a:lnTo>
                  <a:pt x="2126" y="13043"/>
                </a:lnTo>
                <a:lnTo>
                  <a:pt x="2151" y="13297"/>
                </a:lnTo>
                <a:lnTo>
                  <a:pt x="2164" y="13244"/>
                </a:lnTo>
                <a:lnTo>
                  <a:pt x="2208" y="13061"/>
                </a:lnTo>
                <a:lnTo>
                  <a:pt x="2143" y="12794"/>
                </a:lnTo>
                <a:lnTo>
                  <a:pt x="2133" y="12613"/>
                </a:lnTo>
                <a:lnTo>
                  <a:pt x="2075" y="11605"/>
                </a:lnTo>
                <a:lnTo>
                  <a:pt x="2033" y="10604"/>
                </a:lnTo>
                <a:lnTo>
                  <a:pt x="2011" y="9593"/>
                </a:lnTo>
                <a:lnTo>
                  <a:pt x="2006" y="9365"/>
                </a:lnTo>
                <a:lnTo>
                  <a:pt x="2011" y="9127"/>
                </a:lnTo>
                <a:lnTo>
                  <a:pt x="2026" y="8899"/>
                </a:lnTo>
                <a:lnTo>
                  <a:pt x="2031" y="8824"/>
                </a:lnTo>
                <a:lnTo>
                  <a:pt x="2041" y="8750"/>
                </a:lnTo>
                <a:lnTo>
                  <a:pt x="2045" y="8675"/>
                </a:lnTo>
                <a:lnTo>
                  <a:pt x="2055" y="8809"/>
                </a:lnTo>
                <a:lnTo>
                  <a:pt x="2063" y="8943"/>
                </a:lnTo>
                <a:lnTo>
                  <a:pt x="2068" y="9078"/>
                </a:lnTo>
                <a:lnTo>
                  <a:pt x="2114" y="10225"/>
                </a:lnTo>
                <a:lnTo>
                  <a:pt x="2166" y="11373"/>
                </a:lnTo>
                <a:lnTo>
                  <a:pt x="2213" y="12520"/>
                </a:lnTo>
                <a:lnTo>
                  <a:pt x="2229" y="12898"/>
                </a:lnTo>
                <a:lnTo>
                  <a:pt x="2321" y="14028"/>
                </a:lnTo>
                <a:lnTo>
                  <a:pt x="2301" y="13650"/>
                </a:lnTo>
                <a:lnTo>
                  <a:pt x="2289" y="13435"/>
                </a:lnTo>
                <a:lnTo>
                  <a:pt x="2258" y="13219"/>
                </a:lnTo>
                <a:lnTo>
                  <a:pt x="2236" y="13005"/>
                </a:lnTo>
                <a:lnTo>
                  <a:pt x="2202" y="12578"/>
                </a:lnTo>
                <a:lnTo>
                  <a:pt x="2165" y="12152"/>
                </a:lnTo>
                <a:lnTo>
                  <a:pt x="2141" y="11725"/>
                </a:lnTo>
                <a:lnTo>
                  <a:pt x="2114" y="11252"/>
                </a:lnTo>
                <a:lnTo>
                  <a:pt x="2089" y="10779"/>
                </a:lnTo>
                <a:lnTo>
                  <a:pt x="2072" y="10306"/>
                </a:lnTo>
                <a:lnTo>
                  <a:pt x="2061" y="10009"/>
                </a:lnTo>
                <a:lnTo>
                  <a:pt x="2061" y="9715"/>
                </a:lnTo>
                <a:lnTo>
                  <a:pt x="2064" y="9418"/>
                </a:lnTo>
                <a:lnTo>
                  <a:pt x="2065" y="9334"/>
                </a:lnTo>
                <a:lnTo>
                  <a:pt x="2064" y="9099"/>
                </a:lnTo>
                <a:lnTo>
                  <a:pt x="2064" y="9183"/>
                </a:lnTo>
                <a:lnTo>
                  <a:pt x="2064" y="10078"/>
                </a:lnTo>
                <a:lnTo>
                  <a:pt x="2109" y="10968"/>
                </a:lnTo>
                <a:lnTo>
                  <a:pt x="2148" y="11863"/>
                </a:lnTo>
                <a:lnTo>
                  <a:pt x="2165" y="12269"/>
                </a:lnTo>
                <a:lnTo>
                  <a:pt x="2175" y="12677"/>
                </a:lnTo>
                <a:lnTo>
                  <a:pt x="2175" y="13083"/>
                </a:lnTo>
                <a:lnTo>
                  <a:pt x="2175" y="13489"/>
                </a:lnTo>
                <a:lnTo>
                  <a:pt x="2177" y="13911"/>
                </a:lnTo>
                <a:lnTo>
                  <a:pt x="2122" y="14315"/>
                </a:lnTo>
                <a:lnTo>
                  <a:pt x="2118" y="14348"/>
                </a:lnTo>
                <a:lnTo>
                  <a:pt x="2109" y="14532"/>
                </a:lnTo>
                <a:lnTo>
                  <a:pt x="2045" y="14464"/>
                </a:lnTo>
                <a:lnTo>
                  <a:pt x="1804" y="14209"/>
                </a:lnTo>
                <a:lnTo>
                  <a:pt x="1785" y="13496"/>
                </a:lnTo>
                <a:lnTo>
                  <a:pt x="1740" y="13180"/>
                </a:lnTo>
                <a:lnTo>
                  <a:pt x="1622" y="12343"/>
                </a:lnTo>
                <a:lnTo>
                  <a:pt x="1580" y="11493"/>
                </a:lnTo>
                <a:lnTo>
                  <a:pt x="1522" y="10653"/>
                </a:lnTo>
                <a:lnTo>
                  <a:pt x="1503" y="10383"/>
                </a:lnTo>
                <a:lnTo>
                  <a:pt x="1521" y="10107"/>
                </a:lnTo>
                <a:lnTo>
                  <a:pt x="1522" y="9836"/>
                </a:lnTo>
                <a:lnTo>
                  <a:pt x="1522" y="9773"/>
                </a:lnTo>
                <a:lnTo>
                  <a:pt x="1522" y="9709"/>
                </a:lnTo>
                <a:lnTo>
                  <a:pt x="1522" y="9646"/>
                </a:lnTo>
                <a:lnTo>
                  <a:pt x="1523" y="9537"/>
                </a:lnTo>
                <a:lnTo>
                  <a:pt x="1494" y="9224"/>
                </a:lnTo>
                <a:lnTo>
                  <a:pt x="1537" y="9325"/>
                </a:lnTo>
                <a:lnTo>
                  <a:pt x="1616" y="9511"/>
                </a:lnTo>
                <a:lnTo>
                  <a:pt x="1569" y="9862"/>
                </a:lnTo>
                <a:lnTo>
                  <a:pt x="1579" y="10053"/>
                </a:lnTo>
                <a:lnTo>
                  <a:pt x="1620" y="10859"/>
                </a:lnTo>
                <a:lnTo>
                  <a:pt x="1641" y="11667"/>
                </a:lnTo>
                <a:lnTo>
                  <a:pt x="1705" y="12471"/>
                </a:lnTo>
                <a:lnTo>
                  <a:pt x="1728" y="12767"/>
                </a:lnTo>
                <a:lnTo>
                  <a:pt x="1757" y="13063"/>
                </a:lnTo>
                <a:lnTo>
                  <a:pt x="1786" y="13359"/>
                </a:lnTo>
                <a:lnTo>
                  <a:pt x="1812" y="13698"/>
                </a:lnTo>
                <a:lnTo>
                  <a:pt x="1798" y="14095"/>
                </a:lnTo>
                <a:lnTo>
                  <a:pt x="1904" y="14423"/>
                </a:lnTo>
                <a:lnTo>
                  <a:pt x="1929" y="14500"/>
                </a:lnTo>
                <a:lnTo>
                  <a:pt x="1923" y="14373"/>
                </a:lnTo>
                <a:lnTo>
                  <a:pt x="1916" y="14292"/>
                </a:lnTo>
                <a:lnTo>
                  <a:pt x="1831" y="13360"/>
                </a:lnTo>
                <a:lnTo>
                  <a:pt x="1753" y="12442"/>
                </a:lnTo>
                <a:lnTo>
                  <a:pt x="1690" y="11504"/>
                </a:lnTo>
                <a:lnTo>
                  <a:pt x="1646" y="10844"/>
                </a:lnTo>
                <a:lnTo>
                  <a:pt x="1662" y="10171"/>
                </a:lnTo>
                <a:lnTo>
                  <a:pt x="1702" y="9511"/>
                </a:lnTo>
                <a:lnTo>
                  <a:pt x="1709" y="9388"/>
                </a:lnTo>
                <a:lnTo>
                  <a:pt x="1642" y="9072"/>
                </a:lnTo>
                <a:lnTo>
                  <a:pt x="1740" y="9146"/>
                </a:lnTo>
                <a:lnTo>
                  <a:pt x="1804" y="9195"/>
                </a:lnTo>
                <a:lnTo>
                  <a:pt x="1758" y="9771"/>
                </a:lnTo>
                <a:lnTo>
                  <a:pt x="1759" y="9821"/>
                </a:lnTo>
                <a:lnTo>
                  <a:pt x="1776" y="10644"/>
                </a:lnTo>
                <a:lnTo>
                  <a:pt x="1808" y="11467"/>
                </a:lnTo>
                <a:lnTo>
                  <a:pt x="1858" y="12288"/>
                </a:lnTo>
                <a:lnTo>
                  <a:pt x="1888" y="12782"/>
                </a:lnTo>
                <a:lnTo>
                  <a:pt x="1922" y="13276"/>
                </a:lnTo>
                <a:lnTo>
                  <a:pt x="1958" y="13770"/>
                </a:lnTo>
                <a:lnTo>
                  <a:pt x="1974" y="13998"/>
                </a:lnTo>
                <a:lnTo>
                  <a:pt x="2019" y="14671"/>
                </a:lnTo>
                <a:lnTo>
                  <a:pt x="2034" y="14442"/>
                </a:lnTo>
                <a:lnTo>
                  <a:pt x="2049" y="14218"/>
                </a:lnTo>
                <a:lnTo>
                  <a:pt x="1987" y="13972"/>
                </a:lnTo>
                <a:lnTo>
                  <a:pt x="1965" y="13751"/>
                </a:lnTo>
                <a:lnTo>
                  <a:pt x="1955" y="13640"/>
                </a:lnTo>
                <a:lnTo>
                  <a:pt x="1945" y="13530"/>
                </a:lnTo>
                <a:lnTo>
                  <a:pt x="1935" y="13419"/>
                </a:lnTo>
                <a:lnTo>
                  <a:pt x="1861" y="12664"/>
                </a:lnTo>
                <a:lnTo>
                  <a:pt x="1771" y="11917"/>
                </a:lnTo>
                <a:lnTo>
                  <a:pt x="1732" y="11161"/>
                </a:lnTo>
                <a:lnTo>
                  <a:pt x="1712" y="10776"/>
                </a:lnTo>
                <a:lnTo>
                  <a:pt x="1691" y="10386"/>
                </a:lnTo>
                <a:lnTo>
                  <a:pt x="1705" y="10000"/>
                </a:lnTo>
                <a:lnTo>
                  <a:pt x="1707" y="9950"/>
                </a:lnTo>
                <a:lnTo>
                  <a:pt x="1715" y="9514"/>
                </a:lnTo>
                <a:lnTo>
                  <a:pt x="1793" y="9485"/>
                </a:lnTo>
                <a:lnTo>
                  <a:pt x="1963" y="9421"/>
                </a:lnTo>
                <a:lnTo>
                  <a:pt x="1893" y="9817"/>
                </a:lnTo>
                <a:lnTo>
                  <a:pt x="1916" y="9997"/>
                </a:lnTo>
                <a:lnTo>
                  <a:pt x="2039" y="10945"/>
                </a:lnTo>
                <a:lnTo>
                  <a:pt x="2138" y="11898"/>
                </a:lnTo>
                <a:lnTo>
                  <a:pt x="2202" y="12852"/>
                </a:lnTo>
                <a:lnTo>
                  <a:pt x="2232" y="13294"/>
                </a:lnTo>
                <a:lnTo>
                  <a:pt x="2270" y="13735"/>
                </a:lnTo>
                <a:lnTo>
                  <a:pt x="2297" y="14177"/>
                </a:lnTo>
                <a:lnTo>
                  <a:pt x="2265" y="14028"/>
                </a:lnTo>
                <a:lnTo>
                  <a:pt x="2236" y="13880"/>
                </a:lnTo>
                <a:lnTo>
                  <a:pt x="2210" y="13729"/>
                </a:lnTo>
                <a:lnTo>
                  <a:pt x="1989" y="12433"/>
                </a:lnTo>
                <a:lnTo>
                  <a:pt x="1844" y="11152"/>
                </a:lnTo>
                <a:lnTo>
                  <a:pt x="1759" y="9844"/>
                </a:lnTo>
                <a:lnTo>
                  <a:pt x="1742" y="9589"/>
                </a:lnTo>
                <a:lnTo>
                  <a:pt x="1745" y="9324"/>
                </a:lnTo>
                <a:lnTo>
                  <a:pt x="1713" y="9071"/>
                </a:lnTo>
                <a:lnTo>
                  <a:pt x="1703" y="8989"/>
                </a:lnTo>
                <a:lnTo>
                  <a:pt x="1705" y="9107"/>
                </a:lnTo>
                <a:lnTo>
                  <a:pt x="1705" y="9190"/>
                </a:lnTo>
                <a:lnTo>
                  <a:pt x="1700" y="10071"/>
                </a:lnTo>
                <a:lnTo>
                  <a:pt x="1789" y="10956"/>
                </a:lnTo>
                <a:lnTo>
                  <a:pt x="1843" y="11833"/>
                </a:lnTo>
                <a:lnTo>
                  <a:pt x="1892" y="12621"/>
                </a:lnTo>
                <a:lnTo>
                  <a:pt x="1963" y="13406"/>
                </a:lnTo>
                <a:lnTo>
                  <a:pt x="2003" y="14195"/>
                </a:lnTo>
                <a:lnTo>
                  <a:pt x="2003" y="14203"/>
                </a:lnTo>
                <a:lnTo>
                  <a:pt x="2041" y="14441"/>
                </a:lnTo>
                <a:lnTo>
                  <a:pt x="2000" y="14348"/>
                </a:lnTo>
                <a:lnTo>
                  <a:pt x="1906" y="14134"/>
                </a:lnTo>
                <a:lnTo>
                  <a:pt x="1889" y="13839"/>
                </a:lnTo>
                <a:lnTo>
                  <a:pt x="1843" y="13613"/>
                </a:lnTo>
                <a:lnTo>
                  <a:pt x="1712" y="12796"/>
                </a:lnTo>
                <a:lnTo>
                  <a:pt x="1589" y="11977"/>
                </a:lnTo>
                <a:lnTo>
                  <a:pt x="1507" y="11154"/>
                </a:lnTo>
                <a:lnTo>
                  <a:pt x="1453" y="10604"/>
                </a:lnTo>
                <a:lnTo>
                  <a:pt x="1521" y="9049"/>
                </a:lnTo>
                <a:lnTo>
                  <a:pt x="1492" y="9601"/>
                </a:lnTo>
                <a:lnTo>
                  <a:pt x="1444" y="10520"/>
                </a:lnTo>
                <a:lnTo>
                  <a:pt x="1490" y="11460"/>
                </a:lnTo>
                <a:lnTo>
                  <a:pt x="1507" y="12374"/>
                </a:lnTo>
                <a:lnTo>
                  <a:pt x="1522" y="13172"/>
                </a:lnTo>
                <a:lnTo>
                  <a:pt x="1549" y="13972"/>
                </a:lnTo>
                <a:lnTo>
                  <a:pt x="1530" y="14770"/>
                </a:lnTo>
                <a:lnTo>
                  <a:pt x="1528" y="14858"/>
                </a:lnTo>
                <a:lnTo>
                  <a:pt x="1540" y="14947"/>
                </a:lnTo>
                <a:lnTo>
                  <a:pt x="1484" y="14822"/>
                </a:lnTo>
                <a:lnTo>
                  <a:pt x="1455" y="14668"/>
                </a:lnTo>
                <a:lnTo>
                  <a:pt x="1443" y="14608"/>
                </a:lnTo>
                <a:lnTo>
                  <a:pt x="1427" y="14501"/>
                </a:lnTo>
                <a:lnTo>
                  <a:pt x="1306" y="13670"/>
                </a:lnTo>
                <a:lnTo>
                  <a:pt x="1261" y="12830"/>
                </a:lnTo>
                <a:lnTo>
                  <a:pt x="1266" y="11990"/>
                </a:lnTo>
                <a:lnTo>
                  <a:pt x="1268" y="11737"/>
                </a:lnTo>
                <a:lnTo>
                  <a:pt x="1142" y="11056"/>
                </a:lnTo>
                <a:lnTo>
                  <a:pt x="1320" y="11236"/>
                </a:lnTo>
                <a:lnTo>
                  <a:pt x="1482" y="11400"/>
                </a:lnTo>
                <a:lnTo>
                  <a:pt x="1459" y="12024"/>
                </a:lnTo>
                <a:lnTo>
                  <a:pt x="1484" y="12228"/>
                </a:lnTo>
                <a:lnTo>
                  <a:pt x="1544" y="12725"/>
                </a:lnTo>
                <a:lnTo>
                  <a:pt x="1597" y="13223"/>
                </a:lnTo>
                <a:lnTo>
                  <a:pt x="1652" y="13721"/>
                </a:lnTo>
                <a:lnTo>
                  <a:pt x="1705" y="14196"/>
                </a:lnTo>
                <a:lnTo>
                  <a:pt x="1701" y="14795"/>
                </a:lnTo>
                <a:lnTo>
                  <a:pt x="1874" y="15248"/>
                </a:lnTo>
                <a:lnTo>
                  <a:pt x="1904" y="15326"/>
                </a:lnTo>
                <a:lnTo>
                  <a:pt x="1877" y="15148"/>
                </a:lnTo>
                <a:lnTo>
                  <a:pt x="1866" y="15065"/>
                </a:lnTo>
                <a:lnTo>
                  <a:pt x="1824" y="14730"/>
                </a:lnTo>
                <a:lnTo>
                  <a:pt x="1775" y="14396"/>
                </a:lnTo>
                <a:lnTo>
                  <a:pt x="1732" y="14061"/>
                </a:lnTo>
                <a:lnTo>
                  <a:pt x="1656" y="13468"/>
                </a:lnTo>
                <a:lnTo>
                  <a:pt x="1607" y="12879"/>
                </a:lnTo>
                <a:lnTo>
                  <a:pt x="1595" y="12281"/>
                </a:lnTo>
                <a:lnTo>
                  <a:pt x="1595" y="12278"/>
                </a:lnTo>
                <a:lnTo>
                  <a:pt x="1612" y="11914"/>
                </a:lnTo>
                <a:lnTo>
                  <a:pt x="1618" y="11919"/>
                </a:lnTo>
                <a:lnTo>
                  <a:pt x="1835" y="12118"/>
                </a:lnTo>
                <a:lnTo>
                  <a:pt x="1758" y="13164"/>
                </a:lnTo>
                <a:lnTo>
                  <a:pt x="1774" y="13434"/>
                </a:lnTo>
                <a:lnTo>
                  <a:pt x="1795" y="13792"/>
                </a:lnTo>
                <a:lnTo>
                  <a:pt x="1807" y="14151"/>
                </a:lnTo>
                <a:lnTo>
                  <a:pt x="1824" y="14509"/>
                </a:lnTo>
                <a:lnTo>
                  <a:pt x="1827" y="14576"/>
                </a:lnTo>
                <a:lnTo>
                  <a:pt x="1829" y="14643"/>
                </a:lnTo>
                <a:lnTo>
                  <a:pt x="1832" y="14710"/>
                </a:lnTo>
                <a:lnTo>
                  <a:pt x="1832" y="14760"/>
                </a:lnTo>
                <a:lnTo>
                  <a:pt x="1837" y="15088"/>
                </a:lnTo>
                <a:lnTo>
                  <a:pt x="1824" y="15061"/>
                </a:lnTo>
                <a:lnTo>
                  <a:pt x="1726" y="14862"/>
                </a:lnTo>
                <a:lnTo>
                  <a:pt x="1705" y="14566"/>
                </a:lnTo>
                <a:lnTo>
                  <a:pt x="1671" y="14352"/>
                </a:lnTo>
                <a:lnTo>
                  <a:pt x="1576" y="13751"/>
                </a:lnTo>
                <a:lnTo>
                  <a:pt x="1511" y="13143"/>
                </a:lnTo>
                <a:lnTo>
                  <a:pt x="1488" y="12535"/>
                </a:lnTo>
                <a:lnTo>
                  <a:pt x="1487" y="12496"/>
                </a:lnTo>
                <a:lnTo>
                  <a:pt x="1472" y="11515"/>
                </a:lnTo>
                <a:lnTo>
                  <a:pt x="1518" y="11516"/>
                </a:lnTo>
                <a:lnTo>
                  <a:pt x="1602" y="11519"/>
                </a:lnTo>
                <a:lnTo>
                  <a:pt x="1624" y="11845"/>
                </a:lnTo>
                <a:lnTo>
                  <a:pt x="1633" y="11900"/>
                </a:lnTo>
                <a:lnTo>
                  <a:pt x="1749" y="12639"/>
                </a:lnTo>
                <a:lnTo>
                  <a:pt x="1813" y="13382"/>
                </a:lnTo>
                <a:lnTo>
                  <a:pt x="1904" y="14124"/>
                </a:lnTo>
                <a:lnTo>
                  <a:pt x="1927" y="14315"/>
                </a:lnTo>
                <a:lnTo>
                  <a:pt x="1853" y="14821"/>
                </a:lnTo>
                <a:lnTo>
                  <a:pt x="1996" y="14692"/>
                </a:lnTo>
                <a:lnTo>
                  <a:pt x="2038" y="14654"/>
                </a:lnTo>
                <a:lnTo>
                  <a:pt x="1995" y="14425"/>
                </a:lnTo>
                <a:lnTo>
                  <a:pt x="1992" y="14378"/>
                </a:lnTo>
                <a:lnTo>
                  <a:pt x="1929" y="13506"/>
                </a:lnTo>
                <a:lnTo>
                  <a:pt x="1859" y="12636"/>
                </a:lnTo>
                <a:lnTo>
                  <a:pt x="1835" y="11762"/>
                </a:lnTo>
                <a:lnTo>
                  <a:pt x="1828" y="11493"/>
                </a:lnTo>
                <a:lnTo>
                  <a:pt x="1733" y="10703"/>
                </a:lnTo>
                <a:lnTo>
                  <a:pt x="1824" y="10956"/>
                </a:lnTo>
                <a:lnTo>
                  <a:pt x="1935" y="11266"/>
                </a:lnTo>
                <a:lnTo>
                  <a:pt x="1918" y="11686"/>
                </a:lnTo>
                <a:lnTo>
                  <a:pt x="1954" y="12008"/>
                </a:lnTo>
                <a:lnTo>
                  <a:pt x="2042" y="12785"/>
                </a:lnTo>
                <a:lnTo>
                  <a:pt x="2126" y="13563"/>
                </a:lnTo>
                <a:lnTo>
                  <a:pt x="2202" y="14341"/>
                </a:lnTo>
                <a:lnTo>
                  <a:pt x="2209" y="14409"/>
                </a:lnTo>
                <a:lnTo>
                  <a:pt x="2218" y="15379"/>
                </a:lnTo>
                <a:lnTo>
                  <a:pt x="2217" y="15379"/>
                </a:lnTo>
                <a:lnTo>
                  <a:pt x="2154" y="15362"/>
                </a:lnTo>
                <a:lnTo>
                  <a:pt x="2109" y="15145"/>
                </a:lnTo>
                <a:lnTo>
                  <a:pt x="2091" y="15080"/>
                </a:lnTo>
                <a:lnTo>
                  <a:pt x="1816" y="14083"/>
                </a:lnTo>
                <a:lnTo>
                  <a:pt x="1726" y="13016"/>
                </a:lnTo>
                <a:lnTo>
                  <a:pt x="1599" y="12001"/>
                </a:lnTo>
                <a:lnTo>
                  <a:pt x="1554" y="11645"/>
                </a:lnTo>
                <a:lnTo>
                  <a:pt x="1364" y="10064"/>
                </a:lnTo>
                <a:lnTo>
                  <a:pt x="1698" y="9825"/>
                </a:lnTo>
                <a:lnTo>
                  <a:pt x="1837" y="9725"/>
                </a:lnTo>
                <a:lnTo>
                  <a:pt x="1845" y="10111"/>
                </a:lnTo>
                <a:lnTo>
                  <a:pt x="1877" y="10280"/>
                </a:lnTo>
                <a:lnTo>
                  <a:pt x="2032" y="11088"/>
                </a:lnTo>
                <a:lnTo>
                  <a:pt x="2137" y="11924"/>
                </a:lnTo>
                <a:lnTo>
                  <a:pt x="2213" y="12736"/>
                </a:lnTo>
                <a:lnTo>
                  <a:pt x="2257" y="13212"/>
                </a:lnTo>
                <a:lnTo>
                  <a:pt x="2261" y="13696"/>
                </a:lnTo>
                <a:lnTo>
                  <a:pt x="2278" y="14173"/>
                </a:lnTo>
                <a:lnTo>
                  <a:pt x="2284" y="14331"/>
                </a:lnTo>
                <a:lnTo>
                  <a:pt x="2353" y="14771"/>
                </a:lnTo>
                <a:lnTo>
                  <a:pt x="2271" y="14636"/>
                </a:lnTo>
                <a:lnTo>
                  <a:pt x="2159" y="14452"/>
                </a:lnTo>
                <a:lnTo>
                  <a:pt x="2144" y="14089"/>
                </a:lnTo>
                <a:lnTo>
                  <a:pt x="2106" y="13889"/>
                </a:lnTo>
                <a:lnTo>
                  <a:pt x="1958" y="13109"/>
                </a:lnTo>
                <a:lnTo>
                  <a:pt x="1855" y="12317"/>
                </a:lnTo>
                <a:lnTo>
                  <a:pt x="1736" y="11534"/>
                </a:lnTo>
                <a:lnTo>
                  <a:pt x="1713" y="11292"/>
                </a:lnTo>
                <a:lnTo>
                  <a:pt x="1685" y="11049"/>
                </a:lnTo>
                <a:lnTo>
                  <a:pt x="1671" y="10806"/>
                </a:lnTo>
                <a:lnTo>
                  <a:pt x="1663" y="10658"/>
                </a:lnTo>
                <a:lnTo>
                  <a:pt x="1591" y="10316"/>
                </a:lnTo>
                <a:lnTo>
                  <a:pt x="1671" y="10179"/>
                </a:lnTo>
                <a:lnTo>
                  <a:pt x="1677" y="10195"/>
                </a:lnTo>
                <a:lnTo>
                  <a:pt x="1684" y="10212"/>
                </a:lnTo>
                <a:lnTo>
                  <a:pt x="1690" y="10228"/>
                </a:lnTo>
                <a:lnTo>
                  <a:pt x="1754" y="10542"/>
                </a:lnTo>
                <a:lnTo>
                  <a:pt x="1791" y="10859"/>
                </a:lnTo>
                <a:lnTo>
                  <a:pt x="1835" y="11176"/>
                </a:lnTo>
                <a:lnTo>
                  <a:pt x="1936" y="11910"/>
                </a:lnTo>
                <a:lnTo>
                  <a:pt x="2061" y="12660"/>
                </a:lnTo>
                <a:lnTo>
                  <a:pt x="2129" y="13404"/>
                </a:lnTo>
                <a:lnTo>
                  <a:pt x="2161" y="13749"/>
                </a:lnTo>
                <a:lnTo>
                  <a:pt x="2183" y="14094"/>
                </a:lnTo>
                <a:lnTo>
                  <a:pt x="2217" y="14438"/>
                </a:lnTo>
                <a:lnTo>
                  <a:pt x="2243" y="14699"/>
                </a:lnTo>
                <a:lnTo>
                  <a:pt x="2547" y="15277"/>
                </a:lnTo>
                <a:lnTo>
                  <a:pt x="2290" y="15222"/>
                </a:lnTo>
                <a:lnTo>
                  <a:pt x="2208" y="15204"/>
                </a:lnTo>
                <a:lnTo>
                  <a:pt x="2100" y="14255"/>
                </a:lnTo>
                <a:lnTo>
                  <a:pt x="2087" y="14180"/>
                </a:lnTo>
                <a:lnTo>
                  <a:pt x="1964" y="13491"/>
                </a:lnTo>
                <a:lnTo>
                  <a:pt x="1898" y="12795"/>
                </a:lnTo>
                <a:lnTo>
                  <a:pt x="1843" y="12098"/>
                </a:lnTo>
                <a:close/>
              </a:path>
            </a:pathLst>
          </a:custGeom>
          <a:noFill/>
          <a:ln cap="sq" w="7632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Ink 9"/>
          <p:cNvSpPr/>
          <p:nvPr/>
        </p:nvSpPr>
        <p:spPr>
          <a:xfrm>
            <a:off x="493560" y="709560"/>
            <a:ext cx="606600" cy="4695840"/>
          </a:xfrm>
          <a:custGeom>
            <a:avLst/>
            <a:gdLst/>
            <a:ahLst/>
            <a:rect l="l" t="t" r="r" b="b"/>
            <a:pathLst>
              <a:path w="1682" h="13045">
                <a:moveTo>
                  <a:pt x="2733" y="4510"/>
                </a:moveTo>
                <a:lnTo>
                  <a:pt x="2786" y="5693"/>
                </a:lnTo>
                <a:lnTo>
                  <a:pt x="2871" y="6869"/>
                </a:lnTo>
                <a:lnTo>
                  <a:pt x="2962" y="8048"/>
                </a:lnTo>
                <a:lnTo>
                  <a:pt x="2970" y="8158"/>
                </a:lnTo>
                <a:lnTo>
                  <a:pt x="3112" y="9621"/>
                </a:lnTo>
                <a:lnTo>
                  <a:pt x="2977" y="9653"/>
                </a:lnTo>
                <a:lnTo>
                  <a:pt x="2902" y="9671"/>
                </a:lnTo>
                <a:lnTo>
                  <a:pt x="2870" y="9464"/>
                </a:lnTo>
                <a:lnTo>
                  <a:pt x="2855" y="9414"/>
                </a:lnTo>
                <a:lnTo>
                  <a:pt x="2476" y="8131"/>
                </a:lnTo>
                <a:lnTo>
                  <a:pt x="2410" y="6719"/>
                </a:lnTo>
                <a:lnTo>
                  <a:pt x="2408" y="5391"/>
                </a:lnTo>
                <a:lnTo>
                  <a:pt x="2408" y="5271"/>
                </a:lnTo>
                <a:lnTo>
                  <a:pt x="2445" y="4934"/>
                </a:lnTo>
                <a:lnTo>
                  <a:pt x="2408" y="5048"/>
                </a:lnTo>
                <a:lnTo>
                  <a:pt x="2403" y="5145"/>
                </a:lnTo>
                <a:lnTo>
                  <a:pt x="2400" y="5192"/>
                </a:lnTo>
                <a:lnTo>
                  <a:pt x="2397" y="5264"/>
                </a:lnTo>
                <a:lnTo>
                  <a:pt x="2372" y="6191"/>
                </a:lnTo>
                <a:lnTo>
                  <a:pt x="2389" y="7112"/>
                </a:lnTo>
                <a:lnTo>
                  <a:pt x="2404" y="8041"/>
                </a:lnTo>
                <a:lnTo>
                  <a:pt x="2410" y="8384"/>
                </a:lnTo>
                <a:lnTo>
                  <a:pt x="2426" y="8728"/>
                </a:lnTo>
                <a:lnTo>
                  <a:pt x="2435" y="9071"/>
                </a:lnTo>
                <a:lnTo>
                  <a:pt x="2439" y="9210"/>
                </a:lnTo>
                <a:lnTo>
                  <a:pt x="2474" y="9916"/>
                </a:lnTo>
                <a:lnTo>
                  <a:pt x="2462" y="9795"/>
                </a:lnTo>
                <a:lnTo>
                  <a:pt x="2313" y="8237"/>
                </a:lnTo>
                <a:lnTo>
                  <a:pt x="2209" y="6686"/>
                </a:lnTo>
                <a:lnTo>
                  <a:pt x="2236" y="5122"/>
                </a:lnTo>
                <a:lnTo>
                  <a:pt x="2241" y="4817"/>
                </a:lnTo>
                <a:lnTo>
                  <a:pt x="2255" y="4514"/>
                </a:lnTo>
                <a:lnTo>
                  <a:pt x="2282" y="4212"/>
                </a:lnTo>
                <a:lnTo>
                  <a:pt x="2297" y="4463"/>
                </a:lnTo>
                <a:lnTo>
                  <a:pt x="2310" y="4713"/>
                </a:lnTo>
                <a:lnTo>
                  <a:pt x="2320" y="4965"/>
                </a:lnTo>
                <a:lnTo>
                  <a:pt x="2349" y="5730"/>
                </a:lnTo>
                <a:lnTo>
                  <a:pt x="2379" y="6488"/>
                </a:lnTo>
                <a:lnTo>
                  <a:pt x="2423" y="7250"/>
                </a:lnTo>
                <a:lnTo>
                  <a:pt x="2465" y="7984"/>
                </a:lnTo>
                <a:lnTo>
                  <a:pt x="2515" y="8717"/>
                </a:lnTo>
                <a:lnTo>
                  <a:pt x="2538" y="9452"/>
                </a:lnTo>
                <a:lnTo>
                  <a:pt x="2578" y="9337"/>
                </a:lnTo>
                <a:lnTo>
                  <a:pt x="2544" y="9551"/>
                </a:lnTo>
                <a:lnTo>
                  <a:pt x="2538" y="9429"/>
                </a:lnTo>
                <a:lnTo>
                  <a:pt x="2491" y="8466"/>
                </a:lnTo>
                <a:lnTo>
                  <a:pt x="2435" y="7505"/>
                </a:lnTo>
                <a:lnTo>
                  <a:pt x="2397" y="6540"/>
                </a:lnTo>
                <a:lnTo>
                  <a:pt x="2386" y="6256"/>
                </a:lnTo>
                <a:lnTo>
                  <a:pt x="2389" y="5970"/>
                </a:lnTo>
                <a:lnTo>
                  <a:pt x="2389" y="5686"/>
                </a:lnTo>
                <a:lnTo>
                  <a:pt x="2389" y="5413"/>
                </a:lnTo>
                <a:lnTo>
                  <a:pt x="2250" y="4638"/>
                </a:lnTo>
                <a:lnTo>
                  <a:pt x="2397" y="4868"/>
                </a:lnTo>
                <a:lnTo>
                  <a:pt x="2847" y="5572"/>
                </a:lnTo>
                <a:lnTo>
                  <a:pt x="2441" y="6538"/>
                </a:lnTo>
                <a:lnTo>
                  <a:pt x="2469" y="7373"/>
                </a:lnTo>
                <a:lnTo>
                  <a:pt x="2481" y="7727"/>
                </a:lnTo>
                <a:lnTo>
                  <a:pt x="2516" y="8080"/>
                </a:lnTo>
                <a:lnTo>
                  <a:pt x="2546" y="8433"/>
                </a:lnTo>
                <a:lnTo>
                  <a:pt x="2619" y="9085"/>
                </a:lnTo>
                <a:lnTo>
                  <a:pt x="2242" y="10773"/>
                </a:lnTo>
                <a:lnTo>
                  <a:pt x="2763" y="10374"/>
                </a:lnTo>
                <a:lnTo>
                  <a:pt x="3542" y="9778"/>
                </a:lnTo>
                <a:lnTo>
                  <a:pt x="2584" y="8421"/>
                </a:lnTo>
                <a:lnTo>
                  <a:pt x="2496" y="7444"/>
                </a:lnTo>
                <a:lnTo>
                  <a:pt x="2429" y="6696"/>
                </a:lnTo>
                <a:lnTo>
                  <a:pt x="2355" y="4546"/>
                </a:lnTo>
                <a:lnTo>
                  <a:pt x="2454" y="5290"/>
                </a:lnTo>
                <a:lnTo>
                  <a:pt x="2554" y="6038"/>
                </a:lnTo>
                <a:lnTo>
                  <a:pt x="2505" y="7018"/>
                </a:lnTo>
                <a:lnTo>
                  <a:pt x="2523" y="7690"/>
                </a:lnTo>
                <a:lnTo>
                  <a:pt x="2546" y="8557"/>
                </a:lnTo>
                <a:lnTo>
                  <a:pt x="2587" y="9420"/>
                </a:lnTo>
                <a:lnTo>
                  <a:pt x="2626" y="10288"/>
                </a:lnTo>
                <a:lnTo>
                  <a:pt x="2637" y="10532"/>
                </a:lnTo>
                <a:lnTo>
                  <a:pt x="2796" y="13166"/>
                </a:lnTo>
                <a:lnTo>
                  <a:pt x="2591" y="13173"/>
                </a:lnTo>
                <a:lnTo>
                  <a:pt x="2487" y="13177"/>
                </a:lnTo>
                <a:lnTo>
                  <a:pt x="2394" y="12409"/>
                </a:lnTo>
                <a:lnTo>
                  <a:pt x="2389" y="12370"/>
                </a:lnTo>
                <a:lnTo>
                  <a:pt x="2271" y="11519"/>
                </a:lnTo>
                <a:lnTo>
                  <a:pt x="2145" y="10835"/>
                </a:lnTo>
                <a:lnTo>
                  <a:pt x="2152" y="10023"/>
                </a:lnTo>
                <a:lnTo>
                  <a:pt x="2158" y="9353"/>
                </a:lnTo>
                <a:lnTo>
                  <a:pt x="2202" y="8689"/>
                </a:lnTo>
                <a:lnTo>
                  <a:pt x="2255" y="8022"/>
                </a:lnTo>
                <a:lnTo>
                  <a:pt x="2265" y="7950"/>
                </a:lnTo>
                <a:lnTo>
                  <a:pt x="2324" y="7439"/>
                </a:lnTo>
                <a:lnTo>
                  <a:pt x="2343" y="7503"/>
                </a:lnTo>
                <a:lnTo>
                  <a:pt x="2562" y="8230"/>
                </a:lnTo>
                <a:lnTo>
                  <a:pt x="2333" y="9021"/>
                </a:lnTo>
                <a:lnTo>
                  <a:pt x="2328" y="9780"/>
                </a:lnTo>
                <a:lnTo>
                  <a:pt x="2322" y="10578"/>
                </a:lnTo>
                <a:lnTo>
                  <a:pt x="2347" y="11379"/>
                </a:lnTo>
                <a:lnTo>
                  <a:pt x="2370" y="12176"/>
                </a:lnTo>
                <a:lnTo>
                  <a:pt x="2397" y="13104"/>
                </a:lnTo>
                <a:lnTo>
                  <a:pt x="3325" y="15315"/>
                </a:lnTo>
                <a:lnTo>
                  <a:pt x="2481" y="14927"/>
                </a:lnTo>
                <a:lnTo>
                  <a:pt x="2424" y="14901"/>
                </a:lnTo>
                <a:lnTo>
                  <a:pt x="2394" y="14472"/>
                </a:lnTo>
                <a:lnTo>
                  <a:pt x="2389" y="14442"/>
                </a:lnTo>
                <a:lnTo>
                  <a:pt x="2255" y="13570"/>
                </a:lnTo>
                <a:lnTo>
                  <a:pt x="2182" y="12694"/>
                </a:lnTo>
                <a:lnTo>
                  <a:pt x="2122" y="11814"/>
                </a:lnTo>
                <a:lnTo>
                  <a:pt x="2106" y="11586"/>
                </a:lnTo>
                <a:lnTo>
                  <a:pt x="2308" y="8767"/>
                </a:lnTo>
                <a:lnTo>
                  <a:pt x="2435" y="8798"/>
                </a:lnTo>
                <a:lnTo>
                  <a:pt x="2546" y="8825"/>
                </a:lnTo>
                <a:lnTo>
                  <a:pt x="2523" y="8892"/>
                </a:lnTo>
                <a:lnTo>
                  <a:pt x="2580" y="9093"/>
                </a:lnTo>
                <a:lnTo>
                  <a:pt x="2819" y="9940"/>
                </a:lnTo>
                <a:lnTo>
                  <a:pt x="2767" y="10885"/>
                </a:lnTo>
                <a:lnTo>
                  <a:pt x="2844" y="11762"/>
                </a:lnTo>
                <a:lnTo>
                  <a:pt x="2883" y="12212"/>
                </a:lnTo>
                <a:lnTo>
                  <a:pt x="3316" y="13975"/>
                </a:lnTo>
                <a:lnTo>
                  <a:pt x="3046" y="14345"/>
                </a:lnTo>
                <a:lnTo>
                  <a:pt x="3030" y="14258"/>
                </a:lnTo>
                <a:lnTo>
                  <a:pt x="3018" y="14214"/>
                </a:lnTo>
                <a:lnTo>
                  <a:pt x="2992" y="14151"/>
                </a:lnTo>
                <a:lnTo>
                  <a:pt x="2816" y="13293"/>
                </a:lnTo>
                <a:lnTo>
                  <a:pt x="2689" y="12437"/>
                </a:lnTo>
                <a:lnTo>
                  <a:pt x="2580" y="11564"/>
                </a:lnTo>
                <a:lnTo>
                  <a:pt x="2485" y="10802"/>
                </a:lnTo>
                <a:lnTo>
                  <a:pt x="2666" y="8504"/>
                </a:lnTo>
                <a:lnTo>
                  <a:pt x="2538" y="9261"/>
                </a:lnTo>
                <a:lnTo>
                  <a:pt x="2532" y="9294"/>
                </a:lnTo>
                <a:lnTo>
                  <a:pt x="2520" y="9589"/>
                </a:lnTo>
                <a:lnTo>
                  <a:pt x="2519" y="9661"/>
                </a:lnTo>
                <a:lnTo>
                  <a:pt x="2519" y="9978"/>
                </a:lnTo>
                <a:lnTo>
                  <a:pt x="2519" y="10101"/>
                </a:lnTo>
                <a:lnTo>
                  <a:pt x="2515" y="10321"/>
                </a:lnTo>
                <a:lnTo>
                  <a:pt x="2513" y="11132"/>
                </a:lnTo>
                <a:lnTo>
                  <a:pt x="2510" y="11941"/>
                </a:lnTo>
                <a:lnTo>
                  <a:pt x="2504" y="12751"/>
                </a:lnTo>
                <a:lnTo>
                  <a:pt x="2500" y="13303"/>
                </a:lnTo>
                <a:lnTo>
                  <a:pt x="2677" y="14368"/>
                </a:lnTo>
                <a:lnTo>
                  <a:pt x="2446" y="14882"/>
                </a:lnTo>
                <a:lnTo>
                  <a:pt x="2330" y="15140"/>
                </a:lnTo>
                <a:lnTo>
                  <a:pt x="2534" y="14746"/>
                </a:lnTo>
                <a:lnTo>
                  <a:pt x="2389" y="14811"/>
                </a:lnTo>
                <a:lnTo>
                  <a:pt x="2227" y="13749"/>
                </a:lnTo>
                <a:lnTo>
                  <a:pt x="2200" y="12711"/>
                </a:lnTo>
                <a:lnTo>
                  <a:pt x="2202" y="11628"/>
                </a:lnTo>
                <a:lnTo>
                  <a:pt x="2203" y="11074"/>
                </a:lnTo>
                <a:lnTo>
                  <a:pt x="2048" y="9659"/>
                </a:lnTo>
                <a:lnTo>
                  <a:pt x="2485" y="10000"/>
                </a:lnTo>
                <a:lnTo>
                  <a:pt x="2600" y="10090"/>
                </a:lnTo>
                <a:lnTo>
                  <a:pt x="2588" y="10484"/>
                </a:lnTo>
                <a:lnTo>
                  <a:pt x="2599" y="10601"/>
                </a:lnTo>
                <a:lnTo>
                  <a:pt x="2687" y="11548"/>
                </a:lnTo>
                <a:lnTo>
                  <a:pt x="2713" y="12502"/>
                </a:lnTo>
                <a:lnTo>
                  <a:pt x="2718" y="13453"/>
                </a:lnTo>
                <a:lnTo>
                  <a:pt x="2721" y="13981"/>
                </a:lnTo>
                <a:lnTo>
                  <a:pt x="3174" y="15213"/>
                </a:lnTo>
                <a:lnTo>
                  <a:pt x="2691" y="14998"/>
                </a:lnTo>
                <a:lnTo>
                  <a:pt x="2551" y="14936"/>
                </a:lnTo>
                <a:lnTo>
                  <a:pt x="2519" y="14062"/>
                </a:lnTo>
                <a:lnTo>
                  <a:pt x="2504" y="13949"/>
                </a:lnTo>
                <a:lnTo>
                  <a:pt x="2449" y="13104"/>
                </a:lnTo>
                <a:lnTo>
                  <a:pt x="2360" y="12267"/>
                </a:lnTo>
                <a:lnTo>
                  <a:pt x="2408" y="11422"/>
                </a:lnTo>
                <a:lnTo>
                  <a:pt x="2413" y="11331"/>
                </a:lnTo>
                <a:lnTo>
                  <a:pt x="2420" y="10355"/>
                </a:lnTo>
                <a:lnTo>
                  <a:pt x="2515" y="10332"/>
                </a:lnTo>
                <a:lnTo>
                  <a:pt x="2664" y="10297"/>
                </a:lnTo>
                <a:lnTo>
                  <a:pt x="2542" y="10632"/>
                </a:lnTo>
                <a:lnTo>
                  <a:pt x="2553" y="10784"/>
                </a:lnTo>
                <a:lnTo>
                  <a:pt x="2618" y="11677"/>
                </a:lnTo>
                <a:lnTo>
                  <a:pt x="2672" y="12569"/>
                </a:lnTo>
                <a:lnTo>
                  <a:pt x="2714" y="13464"/>
                </a:lnTo>
                <a:lnTo>
                  <a:pt x="2721" y="13615"/>
                </a:lnTo>
                <a:lnTo>
                  <a:pt x="2728" y="14882"/>
                </a:lnTo>
                <a:lnTo>
                  <a:pt x="2683" y="14875"/>
                </a:lnTo>
                <a:lnTo>
                  <a:pt x="2581" y="14860"/>
                </a:lnTo>
                <a:lnTo>
                  <a:pt x="2459" y="13851"/>
                </a:lnTo>
                <a:lnTo>
                  <a:pt x="2450" y="13789"/>
                </a:lnTo>
                <a:lnTo>
                  <a:pt x="2320" y="12858"/>
                </a:lnTo>
                <a:lnTo>
                  <a:pt x="2199" y="12087"/>
                </a:lnTo>
                <a:lnTo>
                  <a:pt x="2164" y="11191"/>
                </a:lnTo>
                <a:lnTo>
                  <a:pt x="2135" y="10449"/>
                </a:lnTo>
                <a:lnTo>
                  <a:pt x="2110" y="9728"/>
                </a:lnTo>
                <a:lnTo>
                  <a:pt x="2091" y="8993"/>
                </a:lnTo>
                <a:lnTo>
                  <a:pt x="2087" y="8770"/>
                </a:lnTo>
                <a:lnTo>
                  <a:pt x="2086" y="8696"/>
                </a:lnTo>
                <a:lnTo>
                  <a:pt x="2080" y="8548"/>
                </a:lnTo>
                <a:lnTo>
                  <a:pt x="2076" y="8448"/>
                </a:lnTo>
                <a:lnTo>
                  <a:pt x="2057" y="8065"/>
                </a:lnTo>
                <a:lnTo>
                  <a:pt x="2057" y="8063"/>
                </a:lnTo>
                <a:lnTo>
                  <a:pt x="2057" y="8099"/>
                </a:lnTo>
                <a:lnTo>
                  <a:pt x="2057" y="8135"/>
                </a:lnTo>
                <a:lnTo>
                  <a:pt x="2057" y="8171"/>
                </a:lnTo>
                <a:lnTo>
                  <a:pt x="2081" y="9108"/>
                </a:lnTo>
                <a:lnTo>
                  <a:pt x="2138" y="10035"/>
                </a:lnTo>
                <a:lnTo>
                  <a:pt x="2190" y="10974"/>
                </a:lnTo>
                <a:lnTo>
                  <a:pt x="2201" y="11173"/>
                </a:lnTo>
                <a:lnTo>
                  <a:pt x="2389" y="13568"/>
                </a:lnTo>
                <a:lnTo>
                  <a:pt x="2206" y="13591"/>
                </a:lnTo>
                <a:lnTo>
                  <a:pt x="2126" y="13601"/>
                </a:lnTo>
                <a:lnTo>
                  <a:pt x="2108" y="13412"/>
                </a:lnTo>
                <a:lnTo>
                  <a:pt x="2076" y="13303"/>
                </a:lnTo>
                <a:lnTo>
                  <a:pt x="1656" y="11891"/>
                </a:lnTo>
                <a:lnTo>
                  <a:pt x="1646" y="10212"/>
                </a:lnTo>
                <a:lnTo>
                  <a:pt x="1583" y="8743"/>
                </a:lnTo>
                <a:lnTo>
                  <a:pt x="1538" y="7696"/>
                </a:lnTo>
                <a:lnTo>
                  <a:pt x="1542" y="6643"/>
                </a:lnTo>
                <a:lnTo>
                  <a:pt x="1511" y="5596"/>
                </a:lnTo>
                <a:lnTo>
                  <a:pt x="1594" y="6284"/>
                </a:lnTo>
                <a:lnTo>
                  <a:pt x="1668" y="6987"/>
                </a:lnTo>
                <a:lnTo>
                  <a:pt x="1751" y="7671"/>
                </a:lnTo>
                <a:lnTo>
                  <a:pt x="1855" y="8528"/>
                </a:lnTo>
                <a:lnTo>
                  <a:pt x="2009" y="9395"/>
                </a:lnTo>
                <a:lnTo>
                  <a:pt x="2137" y="10243"/>
                </a:lnTo>
                <a:lnTo>
                  <a:pt x="2161" y="10400"/>
                </a:lnTo>
                <a:lnTo>
                  <a:pt x="2368" y="11294"/>
                </a:lnTo>
                <a:lnTo>
                  <a:pt x="2278" y="11359"/>
                </a:lnTo>
                <a:lnTo>
                  <a:pt x="2069" y="11509"/>
                </a:lnTo>
                <a:lnTo>
                  <a:pt x="2159" y="10857"/>
                </a:lnTo>
                <a:lnTo>
                  <a:pt x="2106" y="10605"/>
                </a:lnTo>
                <a:lnTo>
                  <a:pt x="1953" y="9754"/>
                </a:lnTo>
                <a:lnTo>
                  <a:pt x="1786" y="8905"/>
                </a:lnTo>
                <a:lnTo>
                  <a:pt x="1667" y="8048"/>
                </a:lnTo>
                <a:lnTo>
                  <a:pt x="1539" y="7123"/>
                </a:lnTo>
                <a:lnTo>
                  <a:pt x="1467" y="6192"/>
                </a:lnTo>
                <a:lnTo>
                  <a:pt x="1431" y="5260"/>
                </a:lnTo>
                <a:lnTo>
                  <a:pt x="1402" y="4508"/>
                </a:lnTo>
                <a:lnTo>
                  <a:pt x="1346" y="3747"/>
                </a:lnTo>
                <a:lnTo>
                  <a:pt x="1385" y="2995"/>
                </a:lnTo>
                <a:lnTo>
                  <a:pt x="1387" y="2989"/>
                </a:lnTo>
                <a:lnTo>
                  <a:pt x="1390" y="2982"/>
                </a:lnTo>
                <a:lnTo>
                  <a:pt x="1392" y="2976"/>
                </a:lnTo>
                <a:lnTo>
                  <a:pt x="1426" y="3235"/>
                </a:lnTo>
                <a:lnTo>
                  <a:pt x="1456" y="3495"/>
                </a:lnTo>
                <a:lnTo>
                  <a:pt x="1480" y="3756"/>
                </a:lnTo>
                <a:lnTo>
                  <a:pt x="1552" y="4533"/>
                </a:lnTo>
                <a:lnTo>
                  <a:pt x="1618" y="5290"/>
                </a:lnTo>
                <a:lnTo>
                  <a:pt x="1709" y="6059"/>
                </a:lnTo>
                <a:lnTo>
                  <a:pt x="1765" y="6532"/>
                </a:lnTo>
                <a:lnTo>
                  <a:pt x="1489" y="7726"/>
                </a:lnTo>
                <a:lnTo>
                  <a:pt x="1862" y="7429"/>
                </a:lnTo>
                <a:lnTo>
                  <a:pt x="1973" y="7340"/>
                </a:lnTo>
                <a:lnTo>
                  <a:pt x="1838" y="6307"/>
                </a:lnTo>
                <a:lnTo>
                  <a:pt x="1835" y="6178"/>
                </a:lnTo>
                <a:lnTo>
                  <a:pt x="1813" y="5369"/>
                </a:lnTo>
                <a:lnTo>
                  <a:pt x="1805" y="4549"/>
                </a:lnTo>
                <a:lnTo>
                  <a:pt x="1767" y="3738"/>
                </a:lnTo>
                <a:lnTo>
                  <a:pt x="1746" y="3282"/>
                </a:lnTo>
                <a:lnTo>
                  <a:pt x="1734" y="2066"/>
                </a:lnTo>
                <a:lnTo>
                  <a:pt x="1694" y="2521"/>
                </a:lnTo>
                <a:lnTo>
                  <a:pt x="1675" y="2734"/>
                </a:lnTo>
                <a:lnTo>
                  <a:pt x="1690" y="2950"/>
                </a:lnTo>
                <a:lnTo>
                  <a:pt x="1694" y="3163"/>
                </a:lnTo>
                <a:lnTo>
                  <a:pt x="1706" y="4053"/>
                </a:lnTo>
                <a:lnTo>
                  <a:pt x="1072" y="6448"/>
                </a:lnTo>
                <a:lnTo>
                  <a:pt x="1713" y="5831"/>
                </a:lnTo>
                <a:lnTo>
                  <a:pt x="1773" y="5774"/>
                </a:lnTo>
                <a:lnTo>
                  <a:pt x="1763" y="5361"/>
                </a:lnTo>
                <a:lnTo>
                  <a:pt x="1767" y="5298"/>
                </a:lnTo>
                <a:lnTo>
                  <a:pt x="1839" y="4191"/>
                </a:lnTo>
                <a:lnTo>
                  <a:pt x="1783" y="3077"/>
                </a:lnTo>
                <a:lnTo>
                  <a:pt x="1847" y="1972"/>
                </a:lnTo>
                <a:lnTo>
                  <a:pt x="1878" y="2189"/>
                </a:lnTo>
                <a:lnTo>
                  <a:pt x="1911" y="2404"/>
                </a:lnTo>
                <a:lnTo>
                  <a:pt x="1931" y="2625"/>
                </a:lnTo>
                <a:lnTo>
                  <a:pt x="2013" y="3522"/>
                </a:lnTo>
                <a:lnTo>
                  <a:pt x="2054" y="4418"/>
                </a:lnTo>
                <a:lnTo>
                  <a:pt x="2103" y="5316"/>
                </a:lnTo>
                <a:lnTo>
                  <a:pt x="2104" y="5334"/>
                </a:lnTo>
                <a:lnTo>
                  <a:pt x="2147" y="5831"/>
                </a:lnTo>
                <a:lnTo>
                  <a:pt x="2148" y="5831"/>
                </a:lnTo>
                <a:lnTo>
                  <a:pt x="2190" y="5817"/>
                </a:lnTo>
                <a:lnTo>
                  <a:pt x="2174" y="5350"/>
                </a:lnTo>
                <a:lnTo>
                  <a:pt x="2175" y="5327"/>
                </a:lnTo>
                <a:lnTo>
                  <a:pt x="2203" y="4476"/>
                </a:lnTo>
                <a:lnTo>
                  <a:pt x="1806" y="2038"/>
                </a:lnTo>
                <a:lnTo>
                  <a:pt x="2233" y="2775"/>
                </a:lnTo>
                <a:lnTo>
                  <a:pt x="2430" y="3114"/>
                </a:lnTo>
                <a:lnTo>
                  <a:pt x="2317" y="3908"/>
                </a:lnTo>
                <a:lnTo>
                  <a:pt x="2332" y="4286"/>
                </a:lnTo>
                <a:lnTo>
                  <a:pt x="2352" y="4780"/>
                </a:lnTo>
                <a:lnTo>
                  <a:pt x="2102" y="6182"/>
                </a:lnTo>
                <a:lnTo>
                  <a:pt x="2366" y="5764"/>
                </a:lnTo>
                <a:lnTo>
                  <a:pt x="2448" y="5633"/>
                </a:lnTo>
                <a:lnTo>
                  <a:pt x="2407" y="5246"/>
                </a:lnTo>
                <a:lnTo>
                  <a:pt x="2412" y="5107"/>
                </a:lnTo>
                <a:lnTo>
                  <a:pt x="2443" y="4249"/>
                </a:lnTo>
                <a:lnTo>
                  <a:pt x="1599" y="2292"/>
                </a:lnTo>
                <a:lnTo>
                  <a:pt x="2423" y="2532"/>
                </a:lnTo>
                <a:lnTo>
                  <a:pt x="2522" y="2561"/>
                </a:lnTo>
                <a:lnTo>
                  <a:pt x="2449" y="2728"/>
                </a:lnTo>
                <a:lnTo>
                  <a:pt x="2477" y="2827"/>
                </a:lnTo>
                <a:lnTo>
                  <a:pt x="2547" y="4686"/>
                </a:lnTo>
                <a:lnTo>
                  <a:pt x="2536" y="6554"/>
                </a:lnTo>
                <a:lnTo>
                  <a:pt x="2507" y="8414"/>
                </a:lnTo>
                <a:lnTo>
                  <a:pt x="2504" y="8619"/>
                </a:lnTo>
                <a:lnTo>
                  <a:pt x="2644" y="9125"/>
                </a:lnTo>
                <a:lnTo>
                  <a:pt x="2465" y="9026"/>
                </a:lnTo>
                <a:lnTo>
                  <a:pt x="2380" y="8979"/>
                </a:lnTo>
                <a:lnTo>
                  <a:pt x="2377" y="8596"/>
                </a:lnTo>
                <a:lnTo>
                  <a:pt x="2370" y="8526"/>
                </a:lnTo>
                <a:lnTo>
                  <a:pt x="2342" y="8206"/>
                </a:lnTo>
                <a:lnTo>
                  <a:pt x="2332" y="8091"/>
                </a:lnTo>
                <a:lnTo>
                  <a:pt x="2317" y="7873"/>
                </a:lnTo>
                <a:lnTo>
                  <a:pt x="2282" y="7124"/>
                </a:lnTo>
                <a:lnTo>
                  <a:pt x="2230" y="6460"/>
                </a:lnTo>
                <a:lnTo>
                  <a:pt x="2240" y="5738"/>
                </a:lnTo>
                <a:lnTo>
                  <a:pt x="2241" y="5695"/>
                </a:lnTo>
                <a:lnTo>
                  <a:pt x="2244" y="5114"/>
                </a:lnTo>
                <a:lnTo>
                  <a:pt x="2305" y="5104"/>
                </a:lnTo>
                <a:lnTo>
                  <a:pt x="2441" y="5081"/>
                </a:lnTo>
                <a:lnTo>
                  <a:pt x="2469" y="5447"/>
                </a:lnTo>
                <a:lnTo>
                  <a:pt x="2492" y="5559"/>
                </a:lnTo>
                <a:lnTo>
                  <a:pt x="2652" y="6356"/>
                </a:lnTo>
                <a:lnTo>
                  <a:pt x="2730" y="7166"/>
                </a:lnTo>
                <a:lnTo>
                  <a:pt x="2802" y="7974"/>
                </a:lnTo>
                <a:lnTo>
                  <a:pt x="2871" y="8747"/>
                </a:lnTo>
                <a:lnTo>
                  <a:pt x="2862" y="9524"/>
                </a:lnTo>
                <a:lnTo>
                  <a:pt x="2866" y="10299"/>
                </a:lnTo>
                <a:lnTo>
                  <a:pt x="2872" y="11445"/>
                </a:lnTo>
                <a:lnTo>
                  <a:pt x="3953" y="14121"/>
                </a:lnTo>
                <a:lnTo>
                  <a:pt x="2874" y="13736"/>
                </a:lnTo>
                <a:lnTo>
                  <a:pt x="2849" y="13727"/>
                </a:lnTo>
                <a:lnTo>
                  <a:pt x="2815" y="13637"/>
                </a:lnTo>
                <a:lnTo>
                  <a:pt x="2771" y="13441"/>
                </a:lnTo>
                <a:lnTo>
                  <a:pt x="2582" y="12590"/>
                </a:lnTo>
                <a:lnTo>
                  <a:pt x="2548" y="11666"/>
                </a:lnTo>
                <a:lnTo>
                  <a:pt x="2504" y="10814"/>
                </a:lnTo>
                <a:lnTo>
                  <a:pt x="2469" y="10142"/>
                </a:lnTo>
                <a:lnTo>
                  <a:pt x="2108" y="8307"/>
                </a:lnTo>
                <a:lnTo>
                  <a:pt x="2569" y="8798"/>
                </a:lnTo>
                <a:lnTo>
                  <a:pt x="2646" y="8880"/>
                </a:lnTo>
                <a:lnTo>
                  <a:pt x="2612" y="9296"/>
                </a:lnTo>
                <a:lnTo>
                  <a:pt x="2618" y="9388"/>
                </a:lnTo>
                <a:lnTo>
                  <a:pt x="2689" y="10844"/>
                </a:lnTo>
                <a:lnTo>
                  <a:pt x="2723" y="12288"/>
                </a:lnTo>
                <a:lnTo>
                  <a:pt x="2725" y="13744"/>
                </a:lnTo>
                <a:lnTo>
                  <a:pt x="2725" y="13765"/>
                </a:lnTo>
                <a:lnTo>
                  <a:pt x="2721" y="13976"/>
                </a:lnTo>
                <a:lnTo>
                  <a:pt x="2718" y="13968"/>
                </a:lnTo>
                <a:lnTo>
                  <a:pt x="2582" y="13662"/>
                </a:lnTo>
                <a:lnTo>
                  <a:pt x="2574" y="13235"/>
                </a:lnTo>
                <a:lnTo>
                  <a:pt x="2534" y="12911"/>
                </a:lnTo>
                <a:lnTo>
                  <a:pt x="2425" y="12033"/>
                </a:lnTo>
                <a:lnTo>
                  <a:pt x="2378" y="11155"/>
                </a:lnTo>
                <a:lnTo>
                  <a:pt x="2336" y="10276"/>
                </a:lnTo>
                <a:lnTo>
                  <a:pt x="2346" y="10068"/>
                </a:lnTo>
                <a:lnTo>
                  <a:pt x="2273" y="9505"/>
                </a:lnTo>
                <a:lnTo>
                  <a:pt x="2366" y="9691"/>
                </a:lnTo>
                <a:lnTo>
                  <a:pt x="2598" y="10153"/>
                </a:lnTo>
                <a:lnTo>
                  <a:pt x="2524" y="12398"/>
                </a:lnTo>
                <a:lnTo>
                  <a:pt x="2530" y="12479"/>
                </a:lnTo>
                <a:lnTo>
                  <a:pt x="2581" y="13197"/>
                </a:lnTo>
                <a:lnTo>
                  <a:pt x="3042" y="15256"/>
                </a:lnTo>
                <a:lnTo>
                  <a:pt x="2733" y="14606"/>
                </a:lnTo>
                <a:lnTo>
                  <a:pt x="2647" y="14426"/>
                </a:lnTo>
                <a:lnTo>
                  <a:pt x="2633" y="14175"/>
                </a:lnTo>
                <a:lnTo>
                  <a:pt x="2595" y="13983"/>
                </a:lnTo>
                <a:lnTo>
                  <a:pt x="2553" y="13709"/>
                </a:lnTo>
                <a:lnTo>
                  <a:pt x="2303" y="10385"/>
                </a:lnTo>
                <a:lnTo>
                  <a:pt x="2431" y="10403"/>
                </a:lnTo>
                <a:lnTo>
                  <a:pt x="2500" y="10413"/>
                </a:lnTo>
                <a:lnTo>
                  <a:pt x="2468" y="10414"/>
                </a:lnTo>
                <a:lnTo>
                  <a:pt x="2527" y="10631"/>
                </a:lnTo>
                <a:lnTo>
                  <a:pt x="2712" y="11317"/>
                </a:lnTo>
                <a:lnTo>
                  <a:pt x="2692" y="12099"/>
                </a:lnTo>
                <a:lnTo>
                  <a:pt x="2725" y="12803"/>
                </a:lnTo>
                <a:lnTo>
                  <a:pt x="2735" y="13109"/>
                </a:lnTo>
                <a:lnTo>
                  <a:pt x="2891" y="13866"/>
                </a:lnTo>
                <a:lnTo>
                  <a:pt x="2752" y="14154"/>
                </a:lnTo>
                <a:lnTo>
                  <a:pt x="2692" y="14277"/>
                </a:lnTo>
                <a:lnTo>
                  <a:pt x="2712" y="13883"/>
                </a:lnTo>
                <a:lnTo>
                  <a:pt x="2691" y="13748"/>
                </a:lnTo>
                <a:lnTo>
                  <a:pt x="2651" y="13488"/>
                </a:lnTo>
                <a:lnTo>
                  <a:pt x="2350" y="11341"/>
                </a:lnTo>
                <a:lnTo>
                  <a:pt x="2630" y="11247"/>
                </a:lnTo>
                <a:lnTo>
                  <a:pt x="2688" y="11228"/>
                </a:lnTo>
                <a:lnTo>
                  <a:pt x="2747" y="11713"/>
                </a:lnTo>
                <a:lnTo>
                  <a:pt x="2748" y="11721"/>
                </a:lnTo>
                <a:lnTo>
                  <a:pt x="2872" y="12375"/>
                </a:lnTo>
                <a:lnTo>
                  <a:pt x="3059" y="13522"/>
                </a:lnTo>
                <a:lnTo>
                  <a:pt x="2859" y="14173"/>
                </a:lnTo>
                <a:lnTo>
                  <a:pt x="2837" y="14134"/>
                </a:lnTo>
                <a:lnTo>
                  <a:pt x="2828" y="14112"/>
                </a:lnTo>
                <a:lnTo>
                  <a:pt x="2824" y="14076"/>
                </a:lnTo>
                <a:close/>
              </a:path>
            </a:pathLst>
          </a:custGeom>
          <a:noFill/>
          <a:ln cap="sq" w="7632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Ink 10"/>
          <p:cNvSpPr/>
          <p:nvPr/>
        </p:nvSpPr>
        <p:spPr>
          <a:xfrm>
            <a:off x="647640" y="3141720"/>
            <a:ext cx="2332080" cy="579240"/>
          </a:xfrm>
          <a:custGeom>
            <a:avLst/>
            <a:gdLst/>
            <a:ahLst/>
            <a:rect l="l" t="t" r="r" b="b"/>
            <a:pathLst>
              <a:path w="6478" h="1609">
                <a:moveTo>
                  <a:pt x="2504" y="9220"/>
                </a:moveTo>
                <a:lnTo>
                  <a:pt x="2492" y="9379"/>
                </a:lnTo>
                <a:lnTo>
                  <a:pt x="2443" y="9509"/>
                </a:lnTo>
                <a:lnTo>
                  <a:pt x="2511" y="9679"/>
                </a:lnTo>
                <a:lnTo>
                  <a:pt x="2552" y="9783"/>
                </a:lnTo>
                <a:lnTo>
                  <a:pt x="2754" y="9865"/>
                </a:lnTo>
                <a:lnTo>
                  <a:pt x="2840" y="9914"/>
                </a:lnTo>
                <a:lnTo>
                  <a:pt x="3179" y="10107"/>
                </a:lnTo>
                <a:lnTo>
                  <a:pt x="3560" y="10202"/>
                </a:lnTo>
                <a:lnTo>
                  <a:pt x="3947" y="10235"/>
                </a:lnTo>
                <a:lnTo>
                  <a:pt x="4964" y="10322"/>
                </a:lnTo>
                <a:lnTo>
                  <a:pt x="5883" y="9842"/>
                </a:lnTo>
                <a:lnTo>
                  <a:pt x="6869" y="9705"/>
                </a:lnTo>
                <a:lnTo>
                  <a:pt x="6895" y="9701"/>
                </a:lnTo>
                <a:lnTo>
                  <a:pt x="6919" y="9709"/>
                </a:lnTo>
                <a:lnTo>
                  <a:pt x="6945" y="9705"/>
                </a:lnTo>
                <a:lnTo>
                  <a:pt x="6805" y="9709"/>
                </a:lnTo>
                <a:lnTo>
                  <a:pt x="6677" y="9717"/>
                </a:lnTo>
                <a:lnTo>
                  <a:pt x="6533" y="9698"/>
                </a:lnTo>
                <a:lnTo>
                  <a:pt x="6148" y="9646"/>
                </a:lnTo>
                <a:lnTo>
                  <a:pt x="5767" y="9526"/>
                </a:lnTo>
                <a:lnTo>
                  <a:pt x="5391" y="9433"/>
                </a:lnTo>
                <a:lnTo>
                  <a:pt x="4628" y="9244"/>
                </a:lnTo>
                <a:lnTo>
                  <a:pt x="3804" y="8961"/>
                </a:lnTo>
                <a:lnTo>
                  <a:pt x="3008" y="8993"/>
                </a:lnTo>
                <a:lnTo>
                  <a:pt x="2853" y="8999"/>
                </a:lnTo>
                <a:lnTo>
                  <a:pt x="2850" y="9040"/>
                </a:lnTo>
                <a:lnTo>
                  <a:pt x="2737" y="9101"/>
                </a:lnTo>
                <a:lnTo>
                  <a:pt x="2785" y="9296"/>
                </a:lnTo>
                <a:lnTo>
                  <a:pt x="2815" y="9394"/>
                </a:lnTo>
                <a:lnTo>
                  <a:pt x="2970" y="9556"/>
                </a:lnTo>
                <a:lnTo>
                  <a:pt x="3261" y="9861"/>
                </a:lnTo>
                <a:lnTo>
                  <a:pt x="3628" y="10063"/>
                </a:lnTo>
                <a:lnTo>
                  <a:pt x="4027" y="10187"/>
                </a:lnTo>
                <a:lnTo>
                  <a:pt x="4360" y="10290"/>
                </a:lnTo>
                <a:lnTo>
                  <a:pt x="4726" y="10330"/>
                </a:lnTo>
                <a:lnTo>
                  <a:pt x="5074" y="10314"/>
                </a:lnTo>
                <a:lnTo>
                  <a:pt x="5554" y="10292"/>
                </a:lnTo>
                <a:lnTo>
                  <a:pt x="6225" y="10154"/>
                </a:lnTo>
                <a:lnTo>
                  <a:pt x="6525" y="9732"/>
                </a:lnTo>
                <a:lnTo>
                  <a:pt x="6580" y="9627"/>
                </a:lnTo>
                <a:lnTo>
                  <a:pt x="6598" y="9594"/>
                </a:lnTo>
                <a:lnTo>
                  <a:pt x="6605" y="9515"/>
                </a:lnTo>
                <a:lnTo>
                  <a:pt x="6499" y="9242"/>
                </a:lnTo>
                <a:lnTo>
                  <a:pt x="6414" y="9111"/>
                </a:lnTo>
                <a:lnTo>
                  <a:pt x="6124" y="8970"/>
                </a:lnTo>
                <a:lnTo>
                  <a:pt x="5652" y="8741"/>
                </a:lnTo>
                <a:lnTo>
                  <a:pt x="5084" y="8720"/>
                </a:lnTo>
                <a:lnTo>
                  <a:pt x="4570" y="8731"/>
                </a:lnTo>
                <a:lnTo>
                  <a:pt x="4096" y="8741"/>
                </a:lnTo>
                <a:lnTo>
                  <a:pt x="3611" y="8793"/>
                </a:lnTo>
                <a:lnTo>
                  <a:pt x="3183" y="9007"/>
                </a:lnTo>
                <a:lnTo>
                  <a:pt x="2976" y="9110"/>
                </a:lnTo>
                <a:lnTo>
                  <a:pt x="2953" y="9200"/>
                </a:lnTo>
                <a:lnTo>
                  <a:pt x="2863" y="9384"/>
                </a:lnTo>
                <a:lnTo>
                  <a:pt x="2985" y="9663"/>
                </a:lnTo>
                <a:lnTo>
                  <a:pt x="3084" y="9792"/>
                </a:lnTo>
                <a:lnTo>
                  <a:pt x="3374" y="9941"/>
                </a:lnTo>
                <a:lnTo>
                  <a:pt x="4256" y="10393"/>
                </a:lnTo>
                <a:lnTo>
                  <a:pt x="5441" y="10268"/>
                </a:lnTo>
                <a:lnTo>
                  <a:pt x="6300" y="9821"/>
                </a:lnTo>
                <a:lnTo>
                  <a:pt x="6452" y="9742"/>
                </a:lnTo>
                <a:lnTo>
                  <a:pt x="6510" y="9663"/>
                </a:lnTo>
                <a:lnTo>
                  <a:pt x="6617" y="9549"/>
                </a:lnTo>
                <a:lnTo>
                  <a:pt x="6521" y="9419"/>
                </a:lnTo>
                <a:lnTo>
                  <a:pt x="6529" y="9394"/>
                </a:lnTo>
                <a:lnTo>
                  <a:pt x="6349" y="9306"/>
                </a:lnTo>
                <a:lnTo>
                  <a:pt x="6021" y="9146"/>
                </a:lnTo>
                <a:lnTo>
                  <a:pt x="5629" y="9101"/>
                </a:lnTo>
                <a:lnTo>
                  <a:pt x="5272" y="9049"/>
                </a:lnTo>
                <a:lnTo>
                  <a:pt x="4624" y="8955"/>
                </a:lnTo>
                <a:lnTo>
                  <a:pt x="3917" y="8902"/>
                </a:lnTo>
                <a:lnTo>
                  <a:pt x="3287" y="9119"/>
                </a:lnTo>
                <a:lnTo>
                  <a:pt x="3050" y="9201"/>
                </a:lnTo>
                <a:lnTo>
                  <a:pt x="2994" y="9273"/>
                </a:lnTo>
                <a:lnTo>
                  <a:pt x="2874" y="9448"/>
                </a:lnTo>
                <a:lnTo>
                  <a:pt x="2985" y="9578"/>
                </a:lnTo>
                <a:lnTo>
                  <a:pt x="3037" y="9640"/>
                </a:lnTo>
                <a:lnTo>
                  <a:pt x="3225" y="9687"/>
                </a:lnTo>
                <a:lnTo>
                  <a:pt x="3574" y="9774"/>
                </a:lnTo>
                <a:lnTo>
                  <a:pt x="3963" y="9747"/>
                </a:lnTo>
                <a:lnTo>
                  <a:pt x="4318" y="9724"/>
                </a:lnTo>
                <a:lnTo>
                  <a:pt x="4894" y="9687"/>
                </a:lnTo>
                <a:lnTo>
                  <a:pt x="5497" y="9581"/>
                </a:lnTo>
                <a:lnTo>
                  <a:pt x="6040" y="9381"/>
                </a:lnTo>
                <a:lnTo>
                  <a:pt x="6214" y="9317"/>
                </a:lnTo>
                <a:lnTo>
                  <a:pt x="6302" y="9232"/>
                </a:lnTo>
                <a:lnTo>
                  <a:pt x="6429" y="9131"/>
                </a:lnTo>
                <a:lnTo>
                  <a:pt x="6350" y="9082"/>
                </a:lnTo>
                <a:lnTo>
                  <a:pt x="6296" y="9020"/>
                </a:lnTo>
                <a:lnTo>
                  <a:pt x="6177" y="8981"/>
                </a:lnTo>
                <a:lnTo>
                  <a:pt x="5576" y="8782"/>
                </a:lnTo>
                <a:lnTo>
                  <a:pt x="4722" y="8862"/>
                </a:lnTo>
                <a:lnTo>
                  <a:pt x="4142" y="9097"/>
                </a:lnTo>
                <a:lnTo>
                  <a:pt x="4033" y="9141"/>
                </a:lnTo>
                <a:lnTo>
                  <a:pt x="3962" y="9179"/>
                </a:lnTo>
                <a:lnTo>
                  <a:pt x="3886" y="9261"/>
                </a:lnTo>
                <a:lnTo>
                  <a:pt x="3889" y="9279"/>
                </a:lnTo>
                <a:lnTo>
                  <a:pt x="3891" y="9296"/>
                </a:lnTo>
                <a:lnTo>
                  <a:pt x="3894" y="9314"/>
                </a:lnTo>
                <a:lnTo>
                  <a:pt x="4008" y="9421"/>
                </a:lnTo>
                <a:lnTo>
                  <a:pt x="4102" y="9502"/>
                </a:lnTo>
                <a:lnTo>
                  <a:pt x="4249" y="9571"/>
                </a:lnTo>
                <a:lnTo>
                  <a:pt x="4775" y="9817"/>
                </a:lnTo>
                <a:lnTo>
                  <a:pt x="5382" y="9860"/>
                </a:lnTo>
                <a:lnTo>
                  <a:pt x="5941" y="9705"/>
                </a:lnTo>
                <a:lnTo>
                  <a:pt x="6117" y="9656"/>
                </a:lnTo>
                <a:lnTo>
                  <a:pt x="6305" y="9578"/>
                </a:lnTo>
                <a:lnTo>
                  <a:pt x="6456" y="9474"/>
                </a:lnTo>
                <a:lnTo>
                  <a:pt x="6587" y="9384"/>
                </a:lnTo>
                <a:lnTo>
                  <a:pt x="6520" y="9358"/>
                </a:lnTo>
                <a:lnTo>
                  <a:pt x="6567" y="9258"/>
                </a:lnTo>
                <a:lnTo>
                  <a:pt x="6391" y="9131"/>
                </a:lnTo>
                <a:lnTo>
                  <a:pt x="6233" y="9073"/>
                </a:lnTo>
                <a:lnTo>
                  <a:pt x="6017" y="9015"/>
                </a:lnTo>
                <a:lnTo>
                  <a:pt x="5657" y="8918"/>
                </a:lnTo>
                <a:lnTo>
                  <a:pt x="5284" y="8857"/>
                </a:lnTo>
                <a:lnTo>
                  <a:pt x="4913" y="8821"/>
                </a:lnTo>
                <a:lnTo>
                  <a:pt x="4522" y="8783"/>
                </a:lnTo>
                <a:lnTo>
                  <a:pt x="3965" y="8727"/>
                </a:lnTo>
                <a:lnTo>
                  <a:pt x="3607" y="8940"/>
                </a:lnTo>
                <a:lnTo>
                  <a:pt x="3495" y="9007"/>
                </a:lnTo>
                <a:lnTo>
                  <a:pt x="3517" y="9067"/>
                </a:lnTo>
                <a:lnTo>
                  <a:pt x="3455" y="9153"/>
                </a:lnTo>
                <a:lnTo>
                  <a:pt x="3511" y="9321"/>
                </a:lnTo>
                <a:lnTo>
                  <a:pt x="3529" y="9414"/>
                </a:lnTo>
                <a:lnTo>
                  <a:pt x="3684" y="9537"/>
                </a:lnTo>
                <a:lnTo>
                  <a:pt x="4140" y="9899"/>
                </a:lnTo>
                <a:lnTo>
                  <a:pt x="4722" y="9947"/>
                </a:lnTo>
                <a:lnTo>
                  <a:pt x="5280" y="9870"/>
                </a:lnTo>
                <a:lnTo>
                  <a:pt x="5470" y="9844"/>
                </a:lnTo>
                <a:lnTo>
                  <a:pt x="5678" y="9803"/>
                </a:lnTo>
                <a:lnTo>
                  <a:pt x="5853" y="9720"/>
                </a:lnTo>
                <a:lnTo>
                  <a:pt x="5963" y="9668"/>
                </a:lnTo>
                <a:lnTo>
                  <a:pt x="6006" y="9603"/>
                </a:lnTo>
                <a:lnTo>
                  <a:pt x="6090" y="9537"/>
                </a:lnTo>
                <a:lnTo>
                  <a:pt x="6019" y="9465"/>
                </a:lnTo>
                <a:lnTo>
                  <a:pt x="5995" y="9400"/>
                </a:lnTo>
                <a:lnTo>
                  <a:pt x="5887" y="9336"/>
                </a:lnTo>
                <a:lnTo>
                  <a:pt x="5661" y="9203"/>
                </a:lnTo>
                <a:lnTo>
                  <a:pt x="5353" y="9151"/>
                </a:lnTo>
                <a:lnTo>
                  <a:pt x="5097" y="9116"/>
                </a:lnTo>
                <a:lnTo>
                  <a:pt x="4778" y="9072"/>
                </a:lnTo>
                <a:lnTo>
                  <a:pt x="4296" y="9049"/>
                </a:lnTo>
                <a:lnTo>
                  <a:pt x="4024" y="9265"/>
                </a:lnTo>
                <a:lnTo>
                  <a:pt x="3857" y="9398"/>
                </a:lnTo>
                <a:lnTo>
                  <a:pt x="3849" y="9611"/>
                </a:lnTo>
                <a:lnTo>
                  <a:pt x="3970" y="9780"/>
                </a:lnTo>
                <a:lnTo>
                  <a:pt x="4090" y="9948"/>
                </a:lnTo>
                <a:lnTo>
                  <a:pt x="4283" y="9970"/>
                </a:lnTo>
                <a:lnTo>
                  <a:pt x="4470" y="9948"/>
                </a:lnTo>
                <a:lnTo>
                  <a:pt x="4494" y="9938"/>
                </a:lnTo>
                <a:lnTo>
                  <a:pt x="4519" y="9928"/>
                </a:lnTo>
                <a:lnTo>
                  <a:pt x="4543" y="9918"/>
                </a:lnTo>
                <a:lnTo>
                  <a:pt x="4699" y="9758"/>
                </a:lnTo>
                <a:lnTo>
                  <a:pt x="4794" y="9641"/>
                </a:lnTo>
                <a:lnTo>
                  <a:pt x="4696" y="9399"/>
                </a:lnTo>
                <a:lnTo>
                  <a:pt x="4524" y="8975"/>
                </a:lnTo>
                <a:lnTo>
                  <a:pt x="4005" y="8799"/>
                </a:lnTo>
                <a:lnTo>
                  <a:pt x="3626" y="9056"/>
                </a:lnTo>
                <a:lnTo>
                  <a:pt x="3463" y="9167"/>
                </a:lnTo>
                <a:lnTo>
                  <a:pt x="3445" y="9296"/>
                </a:lnTo>
                <a:lnTo>
                  <a:pt x="3386" y="9463"/>
                </a:lnTo>
                <a:lnTo>
                  <a:pt x="3393" y="9534"/>
                </a:lnTo>
                <a:lnTo>
                  <a:pt x="3402" y="9592"/>
                </a:lnTo>
                <a:lnTo>
                  <a:pt x="3416" y="9661"/>
                </a:lnTo>
                <a:lnTo>
                  <a:pt x="3514" y="9646"/>
                </a:lnTo>
                <a:lnTo>
                  <a:pt x="3522" y="9758"/>
                </a:lnTo>
                <a:lnTo>
                  <a:pt x="3607" y="9601"/>
                </a:lnTo>
                <a:lnTo>
                  <a:pt x="3716" y="9400"/>
                </a:lnTo>
                <a:lnTo>
                  <a:pt x="3590" y="8984"/>
                </a:lnTo>
                <a:lnTo>
                  <a:pt x="3355" y="8933"/>
                </a:lnTo>
                <a:lnTo>
                  <a:pt x="3165" y="8891"/>
                </a:lnTo>
                <a:lnTo>
                  <a:pt x="2964" y="9133"/>
                </a:lnTo>
                <a:lnTo>
                  <a:pt x="2886" y="9276"/>
                </a:lnTo>
                <a:lnTo>
                  <a:pt x="2801" y="9432"/>
                </a:lnTo>
                <a:lnTo>
                  <a:pt x="2783" y="9597"/>
                </a:lnTo>
                <a:lnTo>
                  <a:pt x="2794" y="9765"/>
                </a:lnTo>
                <a:lnTo>
                  <a:pt x="2802" y="9776"/>
                </a:lnTo>
                <a:lnTo>
                  <a:pt x="2809" y="9788"/>
                </a:lnTo>
                <a:lnTo>
                  <a:pt x="2817" y="9799"/>
                </a:lnTo>
                <a:lnTo>
                  <a:pt x="2886" y="9749"/>
                </a:lnTo>
                <a:lnTo>
                  <a:pt x="2936" y="9787"/>
                </a:lnTo>
                <a:lnTo>
                  <a:pt x="3000" y="9661"/>
                </a:lnTo>
                <a:lnTo>
                  <a:pt x="3140" y="9385"/>
                </a:lnTo>
                <a:lnTo>
                  <a:pt x="3145" y="8944"/>
                </a:lnTo>
                <a:lnTo>
                  <a:pt x="2851" y="8769"/>
                </a:lnTo>
                <a:lnTo>
                  <a:pt x="2690" y="8674"/>
                </a:lnTo>
                <a:lnTo>
                  <a:pt x="2573" y="8775"/>
                </a:lnTo>
                <a:lnTo>
                  <a:pt x="2458" y="8884"/>
                </a:lnTo>
                <a:lnTo>
                  <a:pt x="2280" y="9052"/>
                </a:lnTo>
                <a:lnTo>
                  <a:pt x="2228" y="9337"/>
                </a:lnTo>
                <a:lnTo>
                  <a:pt x="2168" y="9560"/>
                </a:lnTo>
                <a:lnTo>
                  <a:pt x="2160" y="9653"/>
                </a:lnTo>
                <a:lnTo>
                  <a:pt x="2158" y="9682"/>
                </a:lnTo>
                <a:lnTo>
                  <a:pt x="2156" y="9743"/>
                </a:lnTo>
                <a:lnTo>
                  <a:pt x="2171" y="9766"/>
                </a:lnTo>
                <a:lnTo>
                  <a:pt x="2151" y="9898"/>
                </a:lnTo>
                <a:lnTo>
                  <a:pt x="2217" y="9885"/>
                </a:lnTo>
                <a:lnTo>
                  <a:pt x="2283" y="9872"/>
                </a:lnTo>
                <a:lnTo>
                  <a:pt x="2301" y="9678"/>
                </a:lnTo>
                <a:lnTo>
                  <a:pt x="2305" y="9635"/>
                </a:lnTo>
                <a:lnTo>
                  <a:pt x="2316" y="9522"/>
                </a:lnTo>
                <a:lnTo>
                  <a:pt x="2306" y="9391"/>
                </a:lnTo>
                <a:lnTo>
                  <a:pt x="2267" y="9284"/>
                </a:lnTo>
                <a:lnTo>
                  <a:pt x="2227" y="9174"/>
                </a:lnTo>
                <a:lnTo>
                  <a:pt x="2097" y="8951"/>
                </a:lnTo>
                <a:lnTo>
                  <a:pt x="1946" y="9007"/>
                </a:lnTo>
                <a:lnTo>
                  <a:pt x="1762" y="9075"/>
                </a:lnTo>
                <a:lnTo>
                  <a:pt x="1797" y="9376"/>
                </a:lnTo>
                <a:lnTo>
                  <a:pt x="1809" y="9519"/>
                </a:lnTo>
                <a:lnTo>
                  <a:pt x="1829" y="9757"/>
                </a:lnTo>
                <a:lnTo>
                  <a:pt x="1934" y="10107"/>
                </a:lnTo>
                <a:lnTo>
                  <a:pt x="2183" y="10198"/>
                </a:lnTo>
                <a:lnTo>
                  <a:pt x="2375" y="10268"/>
                </a:lnTo>
                <a:lnTo>
                  <a:pt x="2565" y="10064"/>
                </a:lnTo>
                <a:lnTo>
                  <a:pt x="2664" y="9926"/>
                </a:lnTo>
                <a:lnTo>
                  <a:pt x="2755" y="9799"/>
                </a:lnTo>
                <a:lnTo>
                  <a:pt x="2813" y="9655"/>
                </a:lnTo>
                <a:lnTo>
                  <a:pt x="2863" y="9508"/>
                </a:lnTo>
                <a:lnTo>
                  <a:pt x="2895" y="9412"/>
                </a:lnTo>
                <a:lnTo>
                  <a:pt x="2896" y="9324"/>
                </a:lnTo>
                <a:lnTo>
                  <a:pt x="2912" y="9228"/>
                </a:lnTo>
                <a:lnTo>
                  <a:pt x="2936" y="9573"/>
                </a:lnTo>
                <a:lnTo>
                  <a:pt x="2964" y="10000"/>
                </a:lnTo>
                <a:lnTo>
                  <a:pt x="3229" y="10258"/>
                </a:lnTo>
                <a:lnTo>
                  <a:pt x="3401" y="10425"/>
                </a:lnTo>
                <a:lnTo>
                  <a:pt x="3528" y="10293"/>
                </a:lnTo>
                <a:lnTo>
                  <a:pt x="3638" y="10142"/>
                </a:lnTo>
                <a:lnTo>
                  <a:pt x="3834" y="9872"/>
                </a:lnTo>
                <a:lnTo>
                  <a:pt x="3816" y="9484"/>
                </a:lnTo>
                <a:lnTo>
                  <a:pt x="3741" y="9190"/>
                </a:lnTo>
                <a:lnTo>
                  <a:pt x="3728" y="9258"/>
                </a:lnTo>
                <a:lnTo>
                  <a:pt x="3695" y="9315"/>
                </a:lnTo>
                <a:lnTo>
                  <a:pt x="3699" y="9403"/>
                </a:lnTo>
                <a:lnTo>
                  <a:pt x="3705" y="9558"/>
                </a:lnTo>
                <a:lnTo>
                  <a:pt x="3732" y="9730"/>
                </a:lnTo>
                <a:lnTo>
                  <a:pt x="3783" y="9877"/>
                </a:lnTo>
                <a:lnTo>
                  <a:pt x="3832" y="10019"/>
                </a:lnTo>
                <a:lnTo>
                  <a:pt x="3942" y="10282"/>
                </a:lnTo>
                <a:lnTo>
                  <a:pt x="4138" y="10250"/>
                </a:lnTo>
                <a:lnTo>
                  <a:pt x="4365" y="10213"/>
                </a:lnTo>
                <a:lnTo>
                  <a:pt x="4488" y="9841"/>
                </a:lnTo>
                <a:lnTo>
                  <a:pt x="4543" y="9661"/>
                </a:lnTo>
                <a:lnTo>
                  <a:pt x="4575" y="9556"/>
                </a:lnTo>
                <a:lnTo>
                  <a:pt x="4646" y="9288"/>
                </a:lnTo>
                <a:lnTo>
                  <a:pt x="4589" y="9183"/>
                </a:lnTo>
                <a:lnTo>
                  <a:pt x="4555" y="9121"/>
                </a:lnTo>
                <a:lnTo>
                  <a:pt x="4569" y="9322"/>
                </a:lnTo>
                <a:lnTo>
                  <a:pt x="4573" y="9392"/>
                </a:lnTo>
                <a:lnTo>
                  <a:pt x="4587" y="9625"/>
                </a:lnTo>
                <a:lnTo>
                  <a:pt x="4618" y="9978"/>
                </a:lnTo>
                <a:lnTo>
                  <a:pt x="4826" y="10127"/>
                </a:lnTo>
                <a:lnTo>
                  <a:pt x="4906" y="10185"/>
                </a:lnTo>
                <a:lnTo>
                  <a:pt x="4989" y="10167"/>
                </a:lnTo>
                <a:lnTo>
                  <a:pt x="5062" y="10105"/>
                </a:lnTo>
                <a:lnTo>
                  <a:pt x="5260" y="9938"/>
                </a:lnTo>
                <a:lnTo>
                  <a:pt x="5317" y="9604"/>
                </a:lnTo>
                <a:lnTo>
                  <a:pt x="5318" y="9362"/>
                </a:lnTo>
                <a:lnTo>
                  <a:pt x="5312" y="9295"/>
                </a:lnTo>
                <a:lnTo>
                  <a:pt x="5311" y="9277"/>
                </a:lnTo>
                <a:lnTo>
                  <a:pt x="5303" y="9235"/>
                </a:lnTo>
                <a:lnTo>
                  <a:pt x="5293" y="9268"/>
                </a:lnTo>
                <a:lnTo>
                  <a:pt x="5252" y="9227"/>
                </a:lnTo>
                <a:lnTo>
                  <a:pt x="5249" y="9261"/>
                </a:lnTo>
                <a:lnTo>
                  <a:pt x="5225" y="9517"/>
                </a:lnTo>
                <a:lnTo>
                  <a:pt x="5290" y="9827"/>
                </a:lnTo>
                <a:lnTo>
                  <a:pt x="5459" y="10026"/>
                </a:lnTo>
                <a:lnTo>
                  <a:pt x="5592" y="10183"/>
                </a:lnTo>
                <a:lnTo>
                  <a:pt x="5762" y="10176"/>
                </a:lnTo>
                <a:lnTo>
                  <a:pt x="5914" y="10049"/>
                </a:lnTo>
                <a:lnTo>
                  <a:pt x="6104" y="9890"/>
                </a:lnTo>
                <a:lnTo>
                  <a:pt x="6203" y="9631"/>
                </a:lnTo>
                <a:lnTo>
                  <a:pt x="6288" y="9407"/>
                </a:lnTo>
                <a:lnTo>
                  <a:pt x="6290" y="9397"/>
                </a:lnTo>
                <a:lnTo>
                  <a:pt x="6358" y="9047"/>
                </a:lnTo>
                <a:lnTo>
                  <a:pt x="6315" y="9075"/>
                </a:lnTo>
                <a:lnTo>
                  <a:pt x="6140" y="9188"/>
                </a:lnTo>
                <a:lnTo>
                  <a:pt x="6204" y="9803"/>
                </a:lnTo>
                <a:lnTo>
                  <a:pt x="6254" y="9963"/>
                </a:lnTo>
                <a:lnTo>
                  <a:pt x="6286" y="10065"/>
                </a:lnTo>
                <a:lnTo>
                  <a:pt x="6352" y="10146"/>
                </a:lnTo>
                <a:lnTo>
                  <a:pt x="6464" y="10105"/>
                </a:lnTo>
                <a:lnTo>
                  <a:pt x="6673" y="10029"/>
                </a:lnTo>
                <a:lnTo>
                  <a:pt x="6796" y="9553"/>
                </a:lnTo>
                <a:lnTo>
                  <a:pt x="6842" y="9366"/>
                </a:lnTo>
                <a:lnTo>
                  <a:pt x="6864" y="9274"/>
                </a:lnTo>
                <a:lnTo>
                  <a:pt x="6856" y="9183"/>
                </a:lnTo>
                <a:lnTo>
                  <a:pt x="6865" y="9093"/>
                </a:lnTo>
                <a:lnTo>
                  <a:pt x="6854" y="9148"/>
                </a:lnTo>
                <a:lnTo>
                  <a:pt x="6826" y="9204"/>
                </a:lnTo>
                <a:lnTo>
                  <a:pt x="6819" y="9269"/>
                </a:lnTo>
                <a:lnTo>
                  <a:pt x="6802" y="9426"/>
                </a:lnTo>
                <a:lnTo>
                  <a:pt x="6800" y="9590"/>
                </a:lnTo>
                <a:lnTo>
                  <a:pt x="6830" y="9746"/>
                </a:lnTo>
                <a:lnTo>
                  <a:pt x="6846" y="9829"/>
                </a:lnTo>
                <a:lnTo>
                  <a:pt x="6869" y="9934"/>
                </a:lnTo>
                <a:lnTo>
                  <a:pt x="6941" y="9985"/>
                </a:lnTo>
                <a:lnTo>
                  <a:pt x="7069" y="10076"/>
                </a:lnTo>
                <a:lnTo>
                  <a:pt x="7160" y="9904"/>
                </a:lnTo>
                <a:lnTo>
                  <a:pt x="7212" y="9814"/>
                </a:lnTo>
                <a:lnTo>
                  <a:pt x="7255" y="9739"/>
                </a:lnTo>
                <a:lnTo>
                  <a:pt x="7410" y="9389"/>
                </a:lnTo>
                <a:lnTo>
                  <a:pt x="7319" y="9306"/>
                </a:lnTo>
                <a:lnTo>
                  <a:pt x="7268" y="9259"/>
                </a:lnTo>
                <a:lnTo>
                  <a:pt x="7300" y="9266"/>
                </a:lnTo>
                <a:lnTo>
                  <a:pt x="7239" y="9302"/>
                </a:lnTo>
                <a:lnTo>
                  <a:pt x="7157" y="9351"/>
                </a:lnTo>
                <a:lnTo>
                  <a:pt x="7167" y="9597"/>
                </a:lnTo>
                <a:lnTo>
                  <a:pt x="7155" y="9676"/>
                </a:lnTo>
                <a:lnTo>
                  <a:pt x="7164" y="9791"/>
                </a:lnTo>
                <a:lnTo>
                  <a:pt x="7157" y="9899"/>
                </a:lnTo>
                <a:lnTo>
                  <a:pt x="7193" y="10011"/>
                </a:lnTo>
                <a:lnTo>
                  <a:pt x="7208" y="10058"/>
                </a:lnTo>
                <a:lnTo>
                  <a:pt x="7253" y="10173"/>
                </a:lnTo>
                <a:lnTo>
                  <a:pt x="7327" y="10157"/>
                </a:lnTo>
                <a:lnTo>
                  <a:pt x="7475" y="10125"/>
                </a:lnTo>
                <a:lnTo>
                  <a:pt x="7550" y="9887"/>
                </a:lnTo>
                <a:lnTo>
                  <a:pt x="7590" y="9765"/>
                </a:lnTo>
                <a:lnTo>
                  <a:pt x="7628" y="9649"/>
                </a:lnTo>
                <a:lnTo>
                  <a:pt x="7645" y="9520"/>
                </a:lnTo>
                <a:lnTo>
                  <a:pt x="7652" y="9399"/>
                </a:lnTo>
                <a:lnTo>
                  <a:pt x="7652" y="9341"/>
                </a:lnTo>
                <a:lnTo>
                  <a:pt x="7652" y="9324"/>
                </a:lnTo>
                <a:lnTo>
                  <a:pt x="7648" y="9287"/>
                </a:lnTo>
                <a:lnTo>
                  <a:pt x="7622" y="9317"/>
                </a:lnTo>
                <a:lnTo>
                  <a:pt x="7592" y="9259"/>
                </a:lnTo>
                <a:lnTo>
                  <a:pt x="7575" y="9295"/>
                </a:lnTo>
                <a:lnTo>
                  <a:pt x="7494" y="9463"/>
                </a:lnTo>
                <a:lnTo>
                  <a:pt x="7435" y="9788"/>
                </a:lnTo>
                <a:lnTo>
                  <a:pt x="7491" y="9970"/>
                </a:lnTo>
                <a:lnTo>
                  <a:pt x="7523" y="10074"/>
                </a:lnTo>
                <a:lnTo>
                  <a:pt x="7547" y="10111"/>
                </a:lnTo>
                <a:lnTo>
                  <a:pt x="7652" y="10075"/>
                </a:lnTo>
                <a:lnTo>
                  <a:pt x="7751" y="10041"/>
                </a:lnTo>
                <a:lnTo>
                  <a:pt x="7818" y="9882"/>
                </a:lnTo>
                <a:lnTo>
                  <a:pt x="7862" y="9799"/>
                </a:lnTo>
                <a:lnTo>
                  <a:pt x="7915" y="9700"/>
                </a:lnTo>
                <a:lnTo>
                  <a:pt x="7946" y="9592"/>
                </a:lnTo>
                <a:lnTo>
                  <a:pt x="7988" y="9489"/>
                </a:lnTo>
                <a:lnTo>
                  <a:pt x="8017" y="9391"/>
                </a:lnTo>
                <a:lnTo>
                  <a:pt x="8026" y="9360"/>
                </a:lnTo>
                <a:lnTo>
                  <a:pt x="8045" y="9295"/>
                </a:lnTo>
                <a:lnTo>
                  <a:pt x="8045" y="9285"/>
                </a:lnTo>
                <a:lnTo>
                  <a:pt x="8077" y="9078"/>
                </a:lnTo>
                <a:lnTo>
                  <a:pt x="8045" y="9090"/>
                </a:lnTo>
                <a:lnTo>
                  <a:pt x="7998" y="9108"/>
                </a:lnTo>
                <a:lnTo>
                  <a:pt x="7985" y="9246"/>
                </a:lnTo>
                <a:lnTo>
                  <a:pt x="7976" y="9280"/>
                </a:lnTo>
                <a:lnTo>
                  <a:pt x="7941" y="9417"/>
                </a:lnTo>
                <a:lnTo>
                  <a:pt x="7850" y="9786"/>
                </a:lnTo>
                <a:lnTo>
                  <a:pt x="7946" y="9914"/>
                </a:lnTo>
                <a:lnTo>
                  <a:pt x="7994" y="9978"/>
                </a:lnTo>
                <a:lnTo>
                  <a:pt x="7992" y="9961"/>
                </a:lnTo>
                <a:lnTo>
                  <a:pt x="8060" y="9933"/>
                </a:lnTo>
                <a:lnTo>
                  <a:pt x="8136" y="9902"/>
                </a:lnTo>
                <a:lnTo>
                  <a:pt x="8194" y="9715"/>
                </a:lnTo>
                <a:lnTo>
                  <a:pt x="8217" y="9649"/>
                </a:lnTo>
                <a:lnTo>
                  <a:pt x="8265" y="9511"/>
                </a:lnTo>
                <a:lnTo>
                  <a:pt x="8349" y="9183"/>
                </a:lnTo>
                <a:lnTo>
                  <a:pt x="8228" y="9056"/>
                </a:lnTo>
                <a:lnTo>
                  <a:pt x="8161" y="8986"/>
                </a:lnTo>
                <a:lnTo>
                  <a:pt x="8134" y="9008"/>
                </a:lnTo>
                <a:lnTo>
                  <a:pt x="8060" y="9063"/>
                </a:lnTo>
                <a:lnTo>
                  <a:pt x="7957" y="9140"/>
                </a:lnTo>
                <a:lnTo>
                  <a:pt x="7676" y="9938"/>
                </a:lnTo>
                <a:lnTo>
                  <a:pt x="7831" y="10019"/>
                </a:lnTo>
                <a:lnTo>
                  <a:pt x="7913" y="10062"/>
                </a:lnTo>
                <a:lnTo>
                  <a:pt x="7915" y="9966"/>
                </a:lnTo>
                <a:lnTo>
                  <a:pt x="7946" y="9911"/>
                </a:lnTo>
                <a:lnTo>
                  <a:pt x="7950" y="9893"/>
                </a:lnTo>
                <a:lnTo>
                  <a:pt x="7953" y="9876"/>
                </a:lnTo>
                <a:lnTo>
                  <a:pt x="7957" y="9858"/>
                </a:lnTo>
                <a:close/>
              </a:path>
            </a:pathLst>
          </a:custGeom>
          <a:noFill/>
          <a:ln cap="sq" w="7632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Ink 11"/>
          <p:cNvSpPr/>
          <p:nvPr/>
        </p:nvSpPr>
        <p:spPr>
          <a:xfrm>
            <a:off x="522360" y="1800360"/>
            <a:ext cx="582480" cy="3495600"/>
          </a:xfrm>
          <a:custGeom>
            <a:avLst/>
            <a:gdLst/>
            <a:ahLst/>
            <a:rect l="l" t="t" r="r" b="b"/>
            <a:pathLst>
              <a:path w="1620" h="9712">
                <a:moveTo>
                  <a:pt x="2591" y="5163"/>
                </a:moveTo>
                <a:lnTo>
                  <a:pt x="2398" y="5091"/>
                </a:lnTo>
                <a:lnTo>
                  <a:pt x="2257" y="4947"/>
                </a:lnTo>
                <a:lnTo>
                  <a:pt x="2015" y="5014"/>
                </a:lnTo>
                <a:lnTo>
                  <a:pt x="1790" y="5077"/>
                </a:lnTo>
                <a:lnTo>
                  <a:pt x="1741" y="5582"/>
                </a:lnTo>
                <a:lnTo>
                  <a:pt x="1732" y="5749"/>
                </a:lnTo>
                <a:lnTo>
                  <a:pt x="1715" y="6071"/>
                </a:lnTo>
                <a:lnTo>
                  <a:pt x="1737" y="6598"/>
                </a:lnTo>
                <a:lnTo>
                  <a:pt x="2057" y="6779"/>
                </a:lnTo>
                <a:lnTo>
                  <a:pt x="2295" y="6914"/>
                </a:lnTo>
                <a:lnTo>
                  <a:pt x="2519" y="6637"/>
                </a:lnTo>
                <a:lnTo>
                  <a:pt x="2633" y="6466"/>
                </a:lnTo>
                <a:lnTo>
                  <a:pt x="2865" y="6117"/>
                </a:lnTo>
                <a:lnTo>
                  <a:pt x="2842" y="5807"/>
                </a:lnTo>
                <a:lnTo>
                  <a:pt x="2802" y="5421"/>
                </a:lnTo>
                <a:lnTo>
                  <a:pt x="2695" y="5291"/>
                </a:lnTo>
                <a:lnTo>
                  <a:pt x="2646" y="5089"/>
                </a:lnTo>
                <a:lnTo>
                  <a:pt x="2431" y="5201"/>
                </a:lnTo>
                <a:lnTo>
                  <a:pt x="1944" y="5455"/>
                </a:lnTo>
                <a:lnTo>
                  <a:pt x="1784" y="6364"/>
                </a:lnTo>
                <a:lnTo>
                  <a:pt x="1816" y="6847"/>
                </a:lnTo>
                <a:lnTo>
                  <a:pt x="1827" y="7019"/>
                </a:lnTo>
                <a:lnTo>
                  <a:pt x="1907" y="7052"/>
                </a:lnTo>
                <a:lnTo>
                  <a:pt x="1961" y="7171"/>
                </a:lnTo>
                <a:lnTo>
                  <a:pt x="2100" y="7042"/>
                </a:lnTo>
                <a:lnTo>
                  <a:pt x="2175" y="7004"/>
                </a:lnTo>
                <a:lnTo>
                  <a:pt x="2267" y="6783"/>
                </a:lnTo>
                <a:lnTo>
                  <a:pt x="2463" y="6309"/>
                </a:lnTo>
                <a:lnTo>
                  <a:pt x="2433" y="5798"/>
                </a:lnTo>
                <a:lnTo>
                  <a:pt x="2309" y="5331"/>
                </a:lnTo>
                <a:lnTo>
                  <a:pt x="2250" y="5410"/>
                </a:lnTo>
                <a:lnTo>
                  <a:pt x="2175" y="5443"/>
                </a:lnTo>
                <a:lnTo>
                  <a:pt x="2133" y="5581"/>
                </a:lnTo>
                <a:lnTo>
                  <a:pt x="2017" y="5958"/>
                </a:lnTo>
                <a:lnTo>
                  <a:pt x="2009" y="6412"/>
                </a:lnTo>
                <a:lnTo>
                  <a:pt x="2080" y="6798"/>
                </a:lnTo>
                <a:lnTo>
                  <a:pt x="2092" y="6865"/>
                </a:lnTo>
                <a:lnTo>
                  <a:pt x="2152" y="7222"/>
                </a:lnTo>
                <a:lnTo>
                  <a:pt x="2290" y="7194"/>
                </a:lnTo>
                <a:lnTo>
                  <a:pt x="2418" y="7168"/>
                </a:lnTo>
                <a:lnTo>
                  <a:pt x="2462" y="6976"/>
                </a:lnTo>
                <a:lnTo>
                  <a:pt x="2496" y="6876"/>
                </a:lnTo>
                <a:lnTo>
                  <a:pt x="2652" y="6412"/>
                </a:lnTo>
                <a:lnTo>
                  <a:pt x="2689" y="5783"/>
                </a:lnTo>
                <a:lnTo>
                  <a:pt x="2500" y="5327"/>
                </a:lnTo>
                <a:lnTo>
                  <a:pt x="2490" y="5331"/>
                </a:lnTo>
                <a:lnTo>
                  <a:pt x="2479" y="5335"/>
                </a:lnTo>
                <a:lnTo>
                  <a:pt x="2469" y="5339"/>
                </a:lnTo>
                <a:lnTo>
                  <a:pt x="2426" y="5489"/>
                </a:lnTo>
                <a:lnTo>
                  <a:pt x="2365" y="5622"/>
                </a:lnTo>
                <a:lnTo>
                  <a:pt x="2339" y="5787"/>
                </a:lnTo>
                <a:lnTo>
                  <a:pt x="2266" y="6256"/>
                </a:lnTo>
                <a:lnTo>
                  <a:pt x="2202" y="7188"/>
                </a:lnTo>
                <a:lnTo>
                  <a:pt x="2469" y="7612"/>
                </a:lnTo>
                <a:lnTo>
                  <a:pt x="2527" y="7704"/>
                </a:lnTo>
                <a:lnTo>
                  <a:pt x="2561" y="7778"/>
                </a:lnTo>
                <a:lnTo>
                  <a:pt x="2672" y="7712"/>
                </a:lnTo>
                <a:lnTo>
                  <a:pt x="2918" y="7566"/>
                </a:lnTo>
                <a:lnTo>
                  <a:pt x="2899" y="6852"/>
                </a:lnTo>
                <a:lnTo>
                  <a:pt x="2901" y="6626"/>
                </a:lnTo>
                <a:lnTo>
                  <a:pt x="2904" y="6279"/>
                </a:lnTo>
                <a:lnTo>
                  <a:pt x="2837" y="6006"/>
                </a:lnTo>
                <a:lnTo>
                  <a:pt x="2714" y="5693"/>
                </a:lnTo>
                <a:lnTo>
                  <a:pt x="2668" y="5761"/>
                </a:lnTo>
                <a:lnTo>
                  <a:pt x="2598" y="5778"/>
                </a:lnTo>
                <a:lnTo>
                  <a:pt x="2557" y="5932"/>
                </a:lnTo>
                <a:lnTo>
                  <a:pt x="2418" y="6457"/>
                </a:lnTo>
                <a:lnTo>
                  <a:pt x="2530" y="7137"/>
                </a:lnTo>
                <a:lnTo>
                  <a:pt x="2607" y="7664"/>
                </a:lnTo>
                <a:lnTo>
                  <a:pt x="2654" y="7981"/>
                </a:lnTo>
                <a:lnTo>
                  <a:pt x="2744" y="8219"/>
                </a:lnTo>
                <a:lnTo>
                  <a:pt x="2870" y="8492"/>
                </a:lnTo>
                <a:lnTo>
                  <a:pt x="2920" y="8418"/>
                </a:lnTo>
                <a:lnTo>
                  <a:pt x="2994" y="8410"/>
                </a:lnTo>
                <a:lnTo>
                  <a:pt x="3023" y="8265"/>
                </a:lnTo>
                <a:lnTo>
                  <a:pt x="3133" y="7722"/>
                </a:lnTo>
                <a:lnTo>
                  <a:pt x="3104" y="7040"/>
                </a:lnTo>
                <a:lnTo>
                  <a:pt x="2935" y="6514"/>
                </a:lnTo>
                <a:lnTo>
                  <a:pt x="2879" y="6340"/>
                </a:lnTo>
                <a:lnTo>
                  <a:pt x="2798" y="6294"/>
                </a:lnTo>
                <a:lnTo>
                  <a:pt x="2725" y="6186"/>
                </a:lnTo>
                <a:lnTo>
                  <a:pt x="2637" y="6371"/>
                </a:lnTo>
                <a:lnTo>
                  <a:pt x="2571" y="6528"/>
                </a:lnTo>
                <a:lnTo>
                  <a:pt x="2542" y="6742"/>
                </a:lnTo>
                <a:lnTo>
                  <a:pt x="2482" y="7178"/>
                </a:lnTo>
                <a:lnTo>
                  <a:pt x="2470" y="7619"/>
                </a:lnTo>
                <a:lnTo>
                  <a:pt x="2481" y="8059"/>
                </a:lnTo>
                <a:lnTo>
                  <a:pt x="2490" y="8411"/>
                </a:lnTo>
                <a:lnTo>
                  <a:pt x="2487" y="8809"/>
                </a:lnTo>
                <a:lnTo>
                  <a:pt x="2603" y="9146"/>
                </a:lnTo>
                <a:lnTo>
                  <a:pt x="2628" y="9193"/>
                </a:lnTo>
                <a:lnTo>
                  <a:pt x="2629" y="9206"/>
                </a:lnTo>
                <a:lnTo>
                  <a:pt x="2660" y="9220"/>
                </a:lnTo>
                <a:lnTo>
                  <a:pt x="2698" y="9088"/>
                </a:lnTo>
                <a:lnTo>
                  <a:pt x="2753" y="8962"/>
                </a:lnTo>
                <a:lnTo>
                  <a:pt x="2775" y="8810"/>
                </a:lnTo>
                <a:lnTo>
                  <a:pt x="2831" y="8415"/>
                </a:lnTo>
                <a:lnTo>
                  <a:pt x="2919" y="6924"/>
                </a:lnTo>
                <a:lnTo>
                  <a:pt x="2542" y="6656"/>
                </a:lnTo>
                <a:lnTo>
                  <a:pt x="2402" y="6557"/>
                </a:lnTo>
                <a:lnTo>
                  <a:pt x="2411" y="6702"/>
                </a:lnTo>
                <a:lnTo>
                  <a:pt x="2355" y="6828"/>
                </a:lnTo>
                <a:lnTo>
                  <a:pt x="2067" y="7479"/>
                </a:lnTo>
                <a:lnTo>
                  <a:pt x="2040" y="8640"/>
                </a:lnTo>
                <a:lnTo>
                  <a:pt x="2240" y="9317"/>
                </a:lnTo>
                <a:lnTo>
                  <a:pt x="2249" y="9321"/>
                </a:lnTo>
                <a:lnTo>
                  <a:pt x="2258" y="9324"/>
                </a:lnTo>
                <a:lnTo>
                  <a:pt x="2267" y="9328"/>
                </a:lnTo>
                <a:lnTo>
                  <a:pt x="2303" y="9195"/>
                </a:lnTo>
                <a:lnTo>
                  <a:pt x="2348" y="9074"/>
                </a:lnTo>
                <a:lnTo>
                  <a:pt x="2370" y="8929"/>
                </a:lnTo>
                <a:lnTo>
                  <a:pt x="2471" y="8272"/>
                </a:lnTo>
                <a:lnTo>
                  <a:pt x="2400" y="7564"/>
                </a:lnTo>
                <a:lnTo>
                  <a:pt x="2213" y="6936"/>
                </a:lnTo>
                <a:lnTo>
                  <a:pt x="2176" y="6977"/>
                </a:lnTo>
                <a:lnTo>
                  <a:pt x="2104" y="6950"/>
                </a:lnTo>
                <a:lnTo>
                  <a:pt x="2042" y="7134"/>
                </a:lnTo>
                <a:lnTo>
                  <a:pt x="1754" y="7985"/>
                </a:lnTo>
                <a:lnTo>
                  <a:pt x="1869" y="9292"/>
                </a:lnTo>
                <a:lnTo>
                  <a:pt x="2103" y="10146"/>
                </a:lnTo>
                <a:lnTo>
                  <a:pt x="2131" y="10248"/>
                </a:lnTo>
                <a:lnTo>
                  <a:pt x="2187" y="10308"/>
                </a:lnTo>
                <a:lnTo>
                  <a:pt x="2221" y="10396"/>
                </a:lnTo>
                <a:lnTo>
                  <a:pt x="2256" y="10325"/>
                </a:lnTo>
                <a:lnTo>
                  <a:pt x="2325" y="10235"/>
                </a:lnTo>
                <a:lnTo>
                  <a:pt x="2355" y="10105"/>
                </a:lnTo>
                <a:lnTo>
                  <a:pt x="2477" y="9581"/>
                </a:lnTo>
                <a:lnTo>
                  <a:pt x="2438" y="8952"/>
                </a:lnTo>
                <a:lnTo>
                  <a:pt x="2229" y="8459"/>
                </a:lnTo>
                <a:lnTo>
                  <a:pt x="2215" y="8437"/>
                </a:lnTo>
                <a:lnTo>
                  <a:pt x="2201" y="8414"/>
                </a:lnTo>
                <a:lnTo>
                  <a:pt x="2187" y="8392"/>
                </a:lnTo>
                <a:lnTo>
                  <a:pt x="2113" y="8470"/>
                </a:lnTo>
                <a:lnTo>
                  <a:pt x="2039" y="8457"/>
                </a:lnTo>
                <a:lnTo>
                  <a:pt x="1958" y="8645"/>
                </a:lnTo>
                <a:lnTo>
                  <a:pt x="1688" y="9274"/>
                </a:lnTo>
                <a:lnTo>
                  <a:pt x="1711" y="10119"/>
                </a:lnTo>
                <a:lnTo>
                  <a:pt x="1709" y="10788"/>
                </a:lnTo>
                <a:lnTo>
                  <a:pt x="1707" y="11462"/>
                </a:lnTo>
                <a:lnTo>
                  <a:pt x="1731" y="12192"/>
                </a:lnTo>
                <a:lnTo>
                  <a:pt x="2057" y="12800"/>
                </a:lnTo>
                <a:lnTo>
                  <a:pt x="2085" y="12852"/>
                </a:lnTo>
                <a:lnTo>
                  <a:pt x="2206" y="13100"/>
                </a:lnTo>
                <a:lnTo>
                  <a:pt x="2309" y="13057"/>
                </a:lnTo>
                <a:lnTo>
                  <a:pt x="2443" y="13001"/>
                </a:lnTo>
                <a:lnTo>
                  <a:pt x="2437" y="12748"/>
                </a:lnTo>
                <a:lnTo>
                  <a:pt x="2450" y="12639"/>
                </a:lnTo>
                <a:lnTo>
                  <a:pt x="2502" y="12205"/>
                </a:lnTo>
                <a:lnTo>
                  <a:pt x="2485" y="11713"/>
                </a:lnTo>
                <a:lnTo>
                  <a:pt x="2339" y="11299"/>
                </a:lnTo>
                <a:lnTo>
                  <a:pt x="2330" y="11290"/>
                </a:lnTo>
                <a:lnTo>
                  <a:pt x="2322" y="11282"/>
                </a:lnTo>
                <a:lnTo>
                  <a:pt x="2313" y="11273"/>
                </a:lnTo>
                <a:lnTo>
                  <a:pt x="2278" y="11419"/>
                </a:lnTo>
                <a:lnTo>
                  <a:pt x="2242" y="11544"/>
                </a:lnTo>
                <a:lnTo>
                  <a:pt x="2233" y="11710"/>
                </a:lnTo>
                <a:lnTo>
                  <a:pt x="2215" y="12034"/>
                </a:lnTo>
                <a:lnTo>
                  <a:pt x="2233" y="12364"/>
                </a:lnTo>
                <a:lnTo>
                  <a:pt x="2248" y="12688"/>
                </a:lnTo>
                <a:lnTo>
                  <a:pt x="2267" y="13087"/>
                </a:lnTo>
                <a:lnTo>
                  <a:pt x="2246" y="13679"/>
                </a:lnTo>
                <a:lnTo>
                  <a:pt x="2446" y="14042"/>
                </a:lnTo>
                <a:lnTo>
                  <a:pt x="2482" y="14108"/>
                </a:lnTo>
                <a:lnTo>
                  <a:pt x="2537" y="14129"/>
                </a:lnTo>
                <a:lnTo>
                  <a:pt x="2565" y="14169"/>
                </a:lnTo>
                <a:lnTo>
                  <a:pt x="2590" y="14048"/>
                </a:lnTo>
                <a:lnTo>
                  <a:pt x="2635" y="13942"/>
                </a:lnTo>
                <a:lnTo>
                  <a:pt x="2641" y="13800"/>
                </a:lnTo>
                <a:lnTo>
                  <a:pt x="2667" y="13207"/>
                </a:lnTo>
                <a:lnTo>
                  <a:pt x="2580" y="12372"/>
                </a:lnTo>
                <a:lnTo>
                  <a:pt x="2309" y="11837"/>
                </a:lnTo>
                <a:lnTo>
                  <a:pt x="2256" y="11732"/>
                </a:lnTo>
                <a:lnTo>
                  <a:pt x="2188" y="11628"/>
                </a:lnTo>
                <a:lnTo>
                  <a:pt x="2061" y="11680"/>
                </a:lnTo>
                <a:lnTo>
                  <a:pt x="1814" y="11781"/>
                </a:lnTo>
                <a:lnTo>
                  <a:pt x="1772" y="12453"/>
                </a:lnTo>
                <a:lnTo>
                  <a:pt x="1748" y="12658"/>
                </a:lnTo>
                <a:lnTo>
                  <a:pt x="1679" y="13239"/>
                </a:lnTo>
                <a:lnTo>
                  <a:pt x="1712" y="13801"/>
                </a:lnTo>
                <a:lnTo>
                  <a:pt x="1904" y="14348"/>
                </a:lnTo>
                <a:lnTo>
                  <a:pt x="1969" y="14310"/>
                </a:lnTo>
                <a:lnTo>
                  <a:pt x="1984" y="14488"/>
                </a:lnTo>
                <a:lnTo>
                  <a:pt x="2076" y="14315"/>
                </a:lnTo>
                <a:lnTo>
                  <a:pt x="2255" y="13980"/>
                </a:lnTo>
                <a:lnTo>
                  <a:pt x="2205" y="13384"/>
                </a:lnTo>
                <a:lnTo>
                  <a:pt x="2175" y="13023"/>
                </a:lnTo>
                <a:lnTo>
                  <a:pt x="2148" y="12697"/>
                </a:lnTo>
                <a:lnTo>
                  <a:pt x="2106" y="12417"/>
                </a:lnTo>
                <a:lnTo>
                  <a:pt x="1988" y="12124"/>
                </a:lnTo>
                <a:lnTo>
                  <a:pt x="1925" y="12178"/>
                </a:lnTo>
                <a:lnTo>
                  <a:pt x="1854" y="12156"/>
                </a:lnTo>
                <a:lnTo>
                  <a:pt x="1790" y="12303"/>
                </a:lnTo>
                <a:lnTo>
                  <a:pt x="1545" y="12864"/>
                </a:lnTo>
                <a:lnTo>
                  <a:pt x="1522" y="13646"/>
                </a:lnTo>
                <a:lnTo>
                  <a:pt x="1610" y="14244"/>
                </a:lnTo>
                <a:lnTo>
                  <a:pt x="1636" y="14418"/>
                </a:lnTo>
                <a:lnTo>
                  <a:pt x="1702" y="14512"/>
                </a:lnTo>
                <a:lnTo>
                  <a:pt x="1774" y="14651"/>
                </a:lnTo>
                <a:lnTo>
                  <a:pt x="1820" y="14570"/>
                </a:lnTo>
                <a:lnTo>
                  <a:pt x="1880" y="14546"/>
                </a:lnTo>
                <a:lnTo>
                  <a:pt x="1904" y="14416"/>
                </a:lnTo>
                <a:lnTo>
                  <a:pt x="1978" y="14012"/>
                </a:lnTo>
                <a:lnTo>
                  <a:pt x="2003" y="13344"/>
                </a:lnTo>
                <a:lnTo>
                  <a:pt x="1797" y="12971"/>
                </a:lnTo>
                <a:lnTo>
                  <a:pt x="1757" y="12898"/>
                </a:lnTo>
                <a:lnTo>
                  <a:pt x="1701" y="12887"/>
                </a:lnTo>
                <a:lnTo>
                  <a:pt x="1663" y="12837"/>
                </a:lnTo>
                <a:lnTo>
                  <a:pt x="1605" y="12925"/>
                </a:lnTo>
                <a:lnTo>
                  <a:pt x="1526" y="12969"/>
                </a:lnTo>
                <a:lnTo>
                  <a:pt x="1492" y="13098"/>
                </a:lnTo>
                <a:lnTo>
                  <a:pt x="1393" y="13478"/>
                </a:lnTo>
                <a:lnTo>
                  <a:pt x="1398" y="14410"/>
                </a:lnTo>
                <a:lnTo>
                  <a:pt x="1797" y="14651"/>
                </a:lnTo>
                <a:lnTo>
                  <a:pt x="1938" y="14736"/>
                </a:lnTo>
                <a:lnTo>
                  <a:pt x="2054" y="14715"/>
                </a:lnTo>
                <a:lnTo>
                  <a:pt x="2160" y="14584"/>
                </a:lnTo>
                <a:lnTo>
                  <a:pt x="2517" y="14144"/>
                </a:lnTo>
                <a:lnTo>
                  <a:pt x="2460" y="13225"/>
                </a:lnTo>
                <a:lnTo>
                  <a:pt x="2404" y="12706"/>
                </a:lnTo>
                <a:lnTo>
                  <a:pt x="2391" y="12582"/>
                </a:lnTo>
                <a:lnTo>
                  <a:pt x="2346" y="12476"/>
                </a:lnTo>
                <a:lnTo>
                  <a:pt x="2320" y="12370"/>
                </a:lnTo>
                <a:lnTo>
                  <a:pt x="2294" y="12475"/>
                </a:lnTo>
                <a:lnTo>
                  <a:pt x="2250" y="12580"/>
                </a:lnTo>
                <a:lnTo>
                  <a:pt x="2236" y="12702"/>
                </a:lnTo>
                <a:lnTo>
                  <a:pt x="2196" y="13064"/>
                </a:lnTo>
                <a:lnTo>
                  <a:pt x="2118" y="14023"/>
                </a:lnTo>
                <a:lnTo>
                  <a:pt x="2389" y="14322"/>
                </a:lnTo>
                <a:lnTo>
                  <a:pt x="2461" y="14402"/>
                </a:lnTo>
                <a:lnTo>
                  <a:pt x="2436" y="14432"/>
                </a:lnTo>
                <a:lnTo>
                  <a:pt x="2530" y="14363"/>
                </a:lnTo>
                <a:lnTo>
                  <a:pt x="2638" y="14283"/>
                </a:lnTo>
                <a:lnTo>
                  <a:pt x="2624" y="13951"/>
                </a:lnTo>
                <a:lnTo>
                  <a:pt x="2633" y="13845"/>
                </a:lnTo>
                <a:lnTo>
                  <a:pt x="2667" y="13441"/>
                </a:lnTo>
                <a:lnTo>
                  <a:pt x="2662" y="13043"/>
                </a:lnTo>
                <a:lnTo>
                  <a:pt x="2630" y="12639"/>
                </a:lnTo>
                <a:lnTo>
                  <a:pt x="2600" y="12266"/>
                </a:lnTo>
                <a:lnTo>
                  <a:pt x="2552" y="11907"/>
                </a:lnTo>
                <a:lnTo>
                  <a:pt x="2458" y="11557"/>
                </a:lnTo>
                <a:lnTo>
                  <a:pt x="2440" y="11658"/>
                </a:lnTo>
                <a:lnTo>
                  <a:pt x="2407" y="11776"/>
                </a:lnTo>
                <a:lnTo>
                  <a:pt x="2401" y="11896"/>
                </a:lnTo>
                <a:lnTo>
                  <a:pt x="2370" y="12474"/>
                </a:lnTo>
                <a:lnTo>
                  <a:pt x="2372" y="13153"/>
                </a:lnTo>
                <a:lnTo>
                  <a:pt x="2572" y="13699"/>
                </a:lnTo>
                <a:lnTo>
                  <a:pt x="2582" y="13705"/>
                </a:lnTo>
                <a:lnTo>
                  <a:pt x="2593" y="13712"/>
                </a:lnTo>
                <a:lnTo>
                  <a:pt x="2603" y="13718"/>
                </a:lnTo>
                <a:lnTo>
                  <a:pt x="2656" y="13589"/>
                </a:lnTo>
                <a:lnTo>
                  <a:pt x="2710" y="13483"/>
                </a:lnTo>
                <a:lnTo>
                  <a:pt x="2737" y="13326"/>
                </a:lnTo>
                <a:lnTo>
                  <a:pt x="2887" y="12441"/>
                </a:lnTo>
                <a:lnTo>
                  <a:pt x="2856" y="11502"/>
                </a:lnTo>
                <a:lnTo>
                  <a:pt x="2821" y="10609"/>
                </a:lnTo>
                <a:lnTo>
                  <a:pt x="2817" y="10517"/>
                </a:lnTo>
                <a:lnTo>
                  <a:pt x="2838" y="9758"/>
                </a:lnTo>
                <a:lnTo>
                  <a:pt x="2679" y="9724"/>
                </a:lnTo>
                <a:lnTo>
                  <a:pt x="2584" y="9704"/>
                </a:lnTo>
                <a:lnTo>
                  <a:pt x="2554" y="10050"/>
                </a:lnTo>
                <a:lnTo>
                  <a:pt x="2549" y="10082"/>
                </a:lnTo>
                <a:lnTo>
                  <a:pt x="2444" y="10735"/>
                </a:lnTo>
                <a:lnTo>
                  <a:pt x="2446" y="11416"/>
                </a:lnTo>
                <a:lnTo>
                  <a:pt x="2427" y="12075"/>
                </a:lnTo>
                <a:lnTo>
                  <a:pt x="2427" y="12206"/>
                </a:lnTo>
                <a:lnTo>
                  <a:pt x="2426" y="12336"/>
                </a:lnTo>
                <a:lnTo>
                  <a:pt x="2427" y="12467"/>
                </a:lnTo>
                <a:lnTo>
                  <a:pt x="2417" y="12042"/>
                </a:lnTo>
                <a:lnTo>
                  <a:pt x="2406" y="11619"/>
                </a:lnTo>
                <a:lnTo>
                  <a:pt x="2381" y="11195"/>
                </a:lnTo>
                <a:lnTo>
                  <a:pt x="2332" y="10380"/>
                </a:lnTo>
                <a:lnTo>
                  <a:pt x="2344" y="9426"/>
                </a:lnTo>
                <a:lnTo>
                  <a:pt x="2061" y="8649"/>
                </a:lnTo>
                <a:lnTo>
                  <a:pt x="2015" y="8522"/>
                </a:lnTo>
                <a:lnTo>
                  <a:pt x="1963" y="8472"/>
                </a:lnTo>
                <a:lnTo>
                  <a:pt x="1904" y="8369"/>
                </a:lnTo>
                <a:lnTo>
                  <a:pt x="1821" y="8515"/>
                </a:lnTo>
                <a:lnTo>
                  <a:pt x="1740" y="8612"/>
                </a:lnTo>
                <a:lnTo>
                  <a:pt x="1690" y="8813"/>
                </a:lnTo>
                <a:lnTo>
                  <a:pt x="1474" y="9682"/>
                </a:lnTo>
                <a:lnTo>
                  <a:pt x="1434" y="10868"/>
                </a:lnTo>
                <a:lnTo>
                  <a:pt x="1683" y="11736"/>
                </a:lnTo>
                <a:lnTo>
                  <a:pt x="1708" y="11805"/>
                </a:lnTo>
                <a:lnTo>
                  <a:pt x="1709" y="11822"/>
                </a:lnTo>
                <a:lnTo>
                  <a:pt x="1744" y="11852"/>
                </a:lnTo>
                <a:lnTo>
                  <a:pt x="1792" y="11729"/>
                </a:lnTo>
                <a:lnTo>
                  <a:pt x="1833" y="11640"/>
                </a:lnTo>
                <a:lnTo>
                  <a:pt x="1858" y="11482"/>
                </a:lnTo>
                <a:lnTo>
                  <a:pt x="2027" y="10397"/>
                </a:lnTo>
                <a:lnTo>
                  <a:pt x="2187" y="8761"/>
                </a:lnTo>
                <a:lnTo>
                  <a:pt x="1721" y="7724"/>
                </a:lnTo>
                <a:lnTo>
                  <a:pt x="1694" y="7676"/>
                </a:lnTo>
                <a:lnTo>
                  <a:pt x="1692" y="7661"/>
                </a:lnTo>
                <a:lnTo>
                  <a:pt x="1656" y="7653"/>
                </a:lnTo>
                <a:lnTo>
                  <a:pt x="1598" y="7892"/>
                </a:lnTo>
                <a:lnTo>
                  <a:pt x="1558" y="8106"/>
                </a:lnTo>
                <a:lnTo>
                  <a:pt x="1553" y="8362"/>
                </a:lnTo>
                <a:lnTo>
                  <a:pt x="1538" y="9155"/>
                </a:lnTo>
                <a:lnTo>
                  <a:pt x="1485" y="10279"/>
                </a:lnTo>
                <a:lnTo>
                  <a:pt x="1805" y="11023"/>
                </a:lnTo>
                <a:lnTo>
                  <a:pt x="1862" y="11156"/>
                </a:lnTo>
                <a:lnTo>
                  <a:pt x="1855" y="11165"/>
                </a:lnTo>
                <a:lnTo>
                  <a:pt x="1923" y="11053"/>
                </a:lnTo>
                <a:lnTo>
                  <a:pt x="2092" y="10776"/>
                </a:lnTo>
                <a:lnTo>
                  <a:pt x="2002" y="10168"/>
                </a:lnTo>
                <a:lnTo>
                  <a:pt x="2007" y="9858"/>
                </a:lnTo>
                <a:lnTo>
                  <a:pt x="2005" y="9813"/>
                </a:lnTo>
                <a:lnTo>
                  <a:pt x="1959" y="9331"/>
                </a:lnTo>
                <a:lnTo>
                  <a:pt x="1954" y="9336"/>
                </a:lnTo>
                <a:lnTo>
                  <a:pt x="1861" y="9442"/>
                </a:lnTo>
                <a:lnTo>
                  <a:pt x="1917" y="9910"/>
                </a:lnTo>
                <a:lnTo>
                  <a:pt x="1912" y="10030"/>
                </a:lnTo>
                <a:lnTo>
                  <a:pt x="1862" y="11184"/>
                </a:lnTo>
                <a:lnTo>
                  <a:pt x="1394" y="12690"/>
                </a:lnTo>
                <a:lnTo>
                  <a:pt x="1621" y="13822"/>
                </a:lnTo>
                <a:lnTo>
                  <a:pt x="1631" y="13870"/>
                </a:lnTo>
                <a:lnTo>
                  <a:pt x="1647" y="13694"/>
                </a:lnTo>
                <a:lnTo>
                  <a:pt x="1656" y="13729"/>
                </a:lnTo>
                <a:lnTo>
                  <a:pt x="1734" y="12977"/>
                </a:lnTo>
                <a:lnTo>
                  <a:pt x="1599" y="10799"/>
                </a:lnTo>
                <a:lnTo>
                  <a:pt x="1805" y="11527"/>
                </a:lnTo>
                <a:lnTo>
                  <a:pt x="1910" y="11897"/>
                </a:lnTo>
                <a:lnTo>
                  <a:pt x="1818" y="12425"/>
                </a:lnTo>
                <a:lnTo>
                  <a:pt x="1832" y="12807"/>
                </a:lnTo>
                <a:lnTo>
                  <a:pt x="1848" y="13231"/>
                </a:lnTo>
                <a:lnTo>
                  <a:pt x="1735" y="14142"/>
                </a:lnTo>
                <a:lnTo>
                  <a:pt x="1996" y="14513"/>
                </a:lnTo>
                <a:lnTo>
                  <a:pt x="2044" y="14582"/>
                </a:lnTo>
                <a:lnTo>
                  <a:pt x="2038" y="14634"/>
                </a:lnTo>
                <a:lnTo>
                  <a:pt x="2095" y="14535"/>
                </a:lnTo>
                <a:lnTo>
                  <a:pt x="2216" y="14322"/>
                </a:lnTo>
                <a:lnTo>
                  <a:pt x="2139" y="13864"/>
                </a:lnTo>
                <a:lnTo>
                  <a:pt x="2137" y="13636"/>
                </a:lnTo>
                <a:lnTo>
                  <a:pt x="2134" y="13275"/>
                </a:lnTo>
                <a:lnTo>
                  <a:pt x="2103" y="12912"/>
                </a:lnTo>
                <a:lnTo>
                  <a:pt x="2064" y="12553"/>
                </a:lnTo>
                <a:lnTo>
                  <a:pt x="2040" y="12358"/>
                </a:lnTo>
                <a:lnTo>
                  <a:pt x="2033" y="12301"/>
                </a:lnTo>
                <a:lnTo>
                  <a:pt x="2015" y="12176"/>
                </a:lnTo>
                <a:lnTo>
                  <a:pt x="2009" y="12136"/>
                </a:lnTo>
                <a:lnTo>
                  <a:pt x="2002" y="12097"/>
                </a:lnTo>
                <a:lnTo>
                  <a:pt x="1996" y="12057"/>
                </a:lnTo>
                <a:lnTo>
                  <a:pt x="1976" y="12081"/>
                </a:lnTo>
                <a:lnTo>
                  <a:pt x="1958" y="11827"/>
                </a:lnTo>
                <a:lnTo>
                  <a:pt x="1904" y="12075"/>
                </a:lnTo>
                <a:lnTo>
                  <a:pt x="1779" y="12653"/>
                </a:lnTo>
                <a:lnTo>
                  <a:pt x="1868" y="13899"/>
                </a:lnTo>
                <a:lnTo>
                  <a:pt x="2202" y="14401"/>
                </a:lnTo>
                <a:lnTo>
                  <a:pt x="2255" y="14480"/>
                </a:lnTo>
                <a:lnTo>
                  <a:pt x="2303" y="14582"/>
                </a:lnTo>
                <a:lnTo>
                  <a:pt x="2408" y="14516"/>
                </a:lnTo>
                <a:lnTo>
                  <a:pt x="2635" y="14373"/>
                </a:lnTo>
                <a:lnTo>
                  <a:pt x="2598" y="13676"/>
                </a:lnTo>
                <a:lnTo>
                  <a:pt x="2611" y="13464"/>
                </a:lnTo>
                <a:lnTo>
                  <a:pt x="2652" y="12789"/>
                </a:lnTo>
                <a:lnTo>
                  <a:pt x="2636" y="12111"/>
                </a:lnTo>
                <a:lnTo>
                  <a:pt x="2580" y="11437"/>
                </a:lnTo>
                <a:lnTo>
                  <a:pt x="2578" y="11425"/>
                </a:lnTo>
                <a:lnTo>
                  <a:pt x="2479" y="10881"/>
                </a:lnTo>
                <a:lnTo>
                  <a:pt x="2458" y="10904"/>
                </a:lnTo>
                <a:lnTo>
                  <a:pt x="2367" y="11005"/>
                </a:lnTo>
                <a:lnTo>
                  <a:pt x="2404" y="11296"/>
                </a:lnTo>
                <a:lnTo>
                  <a:pt x="2401" y="11411"/>
                </a:lnTo>
                <a:lnTo>
                  <a:pt x="2384" y="12012"/>
                </a:lnTo>
                <a:lnTo>
                  <a:pt x="2419" y="12614"/>
                </a:lnTo>
                <a:lnTo>
                  <a:pt x="2446" y="13214"/>
                </a:lnTo>
                <a:lnTo>
                  <a:pt x="2482" y="13226"/>
                </a:lnTo>
                <a:lnTo>
                  <a:pt x="2478" y="13497"/>
                </a:lnTo>
                <a:lnTo>
                  <a:pt x="2523" y="13229"/>
                </a:lnTo>
                <a:lnTo>
                  <a:pt x="2669" y="12362"/>
                </a:lnTo>
                <a:lnTo>
                  <a:pt x="2595" y="11270"/>
                </a:lnTo>
                <a:lnTo>
                  <a:pt x="2595" y="10452"/>
                </a:lnTo>
                <a:lnTo>
                  <a:pt x="2595" y="10216"/>
                </a:lnTo>
                <a:lnTo>
                  <a:pt x="2578" y="9979"/>
                </a:lnTo>
                <a:lnTo>
                  <a:pt x="2572" y="9743"/>
                </a:lnTo>
                <a:close/>
              </a:path>
            </a:pathLst>
          </a:custGeom>
          <a:noFill/>
          <a:ln cap="sq" w="7632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venger Hu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you tell what grade or subject they teach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you find contact informatio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there a link to the school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there a link to the distric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there a link to parent portal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do you know about the perso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the content curren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much searching do you have to do for the content you are looking fo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13:59:18Z</dcterms:created>
  <dc:creator>MCSD</dc:creator>
  <dc:description/>
  <dc:language>en-US</dc:language>
  <cp:lastModifiedBy>MCSD</cp:lastModifiedBy>
  <dcterms:modified xsi:type="dcterms:W3CDTF">2009-07-13T20:45:45Z</dcterms:modified>
  <cp:revision>2</cp:revision>
  <dc:subject/>
  <dc:title>How important is the information on your web page?</dc:title>
</cp:coreProperties>
</file>